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7C212D4B-D0A7-4031-A030-9CE66467548A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7A45AC2-6DCB-4C26-984B-3ED2C77CE202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3:48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943128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acm98\Brazil\Sovereign\Banco Central\rdshgs.p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5A68845-4273-4B88-8CE7-C8AEB9B0821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CA748CED-E6AE-4FD3-B658-6CB6A6CECF5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NewRomanPS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91265BE0-47C5-452C-AEBF-88C4255822A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PSMT"/>
              </a:rPr>
              <a:t>Taxa de desconto média ponderada pelo valor (Cielo e Redeca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sidera cartões de crédito e de débito: cálculo pela lucrativid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A72291DF-0CAF-4A84-A33A-78C680BBA663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2300808-6173-46D1-9FEE-7CE51A71A167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3:48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15E163E5-9613-423D-8464-62ACC127391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DFE8414B-9040-47BC-8CFC-DFBA17E36E1C}" type="slidenum">
              <a:rPr b="0" lang="pt-B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arifa de anuidade Hipercard = 0 (zer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47774473-ED5B-4E9E-BC57-19D129BD5E6E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E5C3125-3895-445B-ABE5-1BF9E56796F7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3:48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0458A371-E133-4A72-8DCA-97DAE3A739E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63D00B10-084F-4DFB-A757-796C42A0A7BD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95DDAC8-02B4-4F18-8F41-7D3115C28D68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3:48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8FF0745-A86E-431B-BEB3-BC9152B0E8A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D434FCE5-DBC3-475F-A680-013446B5ABD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NewRomanPS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B71D5744-ADA8-41F3-9AF9-5A0DEB3D7F0A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4692A49-01A1-4857-8C26-6A12248C96BD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3:48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855FAD5C-DC7C-47CE-A909-E93AEC70C9E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Espaço Reservado para Número de Slide 3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9BB52A9-CA0D-454B-87F2-F7DC90E2B715}" type="slidenum">
              <a:rPr b="0" lang="pt-B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A62785ED-39CD-4FF8-93E8-4E95230A8B0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NewRomanPS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45BAFD9E-CCF1-420D-8EBA-ECE3318D5F6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NewRomanPS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3AA4EBC0-7066-4807-8922-38DF091FA962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D077A2B-881F-40A2-99D1-30C94E5F87E0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3:48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BD5EBBCF-1C5D-4793-ADA9-EBCCB4C057B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F5D54C73-DBD6-4831-8DDE-E544DB86CDB7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3542959-00EE-4CD9-813A-638887ADB5E8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3:48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DE9C339-3081-42C4-9F39-04FF3B5584D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EDC6CE09-1D24-40C0-BC86-62998F9417F9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B5EEB64-4236-4349-9E44-7285A716782A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3:48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E03ED081-4FC4-467E-9445-F633F63ECA8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étricas do mercado para o índice HH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té 0,1000 desconcentr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 0,1000 até 0,1800 moderadamente concentr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cima de 0,1800 altamente concentr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5CDCC847-FC91-4FB2-9CBE-7B4FD4DDCCF0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F612E4C-8488-4E7A-AE73-0DAD447CA31A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3:48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E8363DE6-4EA0-47C8-982B-DAB55DD535F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étricas do mercado para o índice HH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té 0,1000 desconcentr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 0,1000 até 0,1800 moderadamente concentr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cima de 0,1800 altamente concentr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830CA88B-9FBB-48AB-8D11-34D503196749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1C083E5-1F08-47F0-B68D-800050D71719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3:48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D93A638B-1697-4CF7-8600-434C836B336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4C6B4-8138-41B2-AD8B-924F6681F0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AE84-7A60-4451-A2C6-000C321331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A3867-B82C-4C44-B0CE-F415BFD161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8C8EF-7ED7-4A9B-B920-DD0C59D842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E4AEA-3FED-474D-8392-918BF9411D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D0FEC-18AB-4BED-B496-6174781719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E024-7BCD-4564-BD7D-DF3086FBE1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5D44-EA56-4CCA-90E8-813A32C8E4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835CC-343C-4FF8-A74E-04657015FE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B8F37-C127-4C34-BB1D-9F5BC531DE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06EB8-D602-43D8-9CED-9F1E355EA4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6B083-EA38-4382-BC9C-79AA53FE6C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base_01"/>
          <p:cNvPicPr/>
          <p:nvPr/>
        </p:nvPicPr>
        <p:blipFill>
          <a:blip r:embed="rId2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4"/>
          <p:cNvSpPr/>
          <p:nvPr/>
        </p:nvSpPr>
        <p:spPr>
          <a:xfrm>
            <a:off x="8474040" y="6388200"/>
            <a:ext cx="6336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B65D5BB-AB67-4F69-AF47-005B476F9BAC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base_01"/>
          <p:cNvPicPr/>
          <p:nvPr/>
        </p:nvPicPr>
        <p:blipFill>
          <a:blip r:embed="rId2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39" name="Rectangle 4"/>
          <p:cNvSpPr/>
          <p:nvPr/>
        </p:nvSpPr>
        <p:spPr>
          <a:xfrm>
            <a:off x="8474040" y="6388200"/>
            <a:ext cx="6336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FE45321-EEFB-48BC-A4D4-0C8E4F75BA23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Num" idx="1"/>
          </p:nvPr>
        </p:nvSpPr>
        <p:spPr>
          <a:xfrm>
            <a:off x="8432280" y="107640"/>
            <a:ext cx="567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3267-7AC9-474B-8E27-BB4C92118399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apa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71280" y="1897200"/>
            <a:ext cx="8999640" cy="316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issão de Desenvolvimento Econômico, Indústria 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ércio da Câmara dos Depu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udiência Pública - Atuação do Segmento de Cartão de Crédito no 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1280" y="5037120"/>
            <a:ext cx="907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Congresso - Brasília            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                 julho/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igil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eços – credenciador  / estabelecimento – aluguel mé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63360" y="1249200"/>
            <a:ext cx="9029880" cy="47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tângulo 5"/>
          <p:cNvSpPr/>
          <p:nvPr/>
        </p:nvSpPr>
        <p:spPr>
          <a:xfrm>
            <a:off x="4430880" y="1177920"/>
            <a:ext cx="3587760" cy="4613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tângulo 4"/>
          <p:cNvSpPr/>
          <p:nvPr/>
        </p:nvSpPr>
        <p:spPr>
          <a:xfrm>
            <a:off x="809640" y="1177920"/>
            <a:ext cx="3621240" cy="4633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igil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eços – credenciador  / estabel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66760" y="1036800"/>
            <a:ext cx="8572320" cy="51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280" y="108000"/>
            <a:ext cx="900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eços do mercado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stinação da taxa de desco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spaço Reservado para Número de Slide 3"/>
          <p:cNvSpPr/>
          <p:nvPr/>
        </p:nvSpPr>
        <p:spPr>
          <a:xfrm>
            <a:off x="8432640" y="108000"/>
            <a:ext cx="567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E5C4-F2A8-4562-ADE2-74CE081E18F7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550200" cy="3765600"/>
          </a:xfrm>
          <a:prstGeom prst="rect">
            <a:avLst/>
          </a:prstGeom>
          <a:ln w="0">
            <a:noFill/>
          </a:ln>
        </p:spPr>
      </p:pic>
      <p:sp>
        <p:nvSpPr>
          <p:cNvPr id="126" name="Chave esquerda 11"/>
          <p:cNvSpPr/>
          <p:nvPr/>
        </p:nvSpPr>
        <p:spPr>
          <a:xfrm>
            <a:off x="1042920" y="1700280"/>
            <a:ext cx="216000" cy="295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2952720"/>
              <a:gd name="textAreaBottom" fmla="*/ 294732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aixaDeTexto 12" descr=""/>
          <p:cNvPicPr/>
          <p:nvPr/>
        </p:nvPicPr>
        <p:blipFill>
          <a:blip r:embed="rId2"/>
          <a:stretch/>
        </p:blipFill>
        <p:spPr>
          <a:xfrm>
            <a:off x="609480" y="1773360"/>
            <a:ext cx="408240" cy="2805120"/>
          </a:xfrm>
          <a:prstGeom prst="rect">
            <a:avLst/>
          </a:prstGeom>
          <a:ln w="0">
            <a:noFill/>
          </a:ln>
        </p:spPr>
      </p:pic>
      <p:pic>
        <p:nvPicPr>
          <p:cNvPr id="128" name="CaixaDeTexto 13" descr=""/>
          <p:cNvPicPr/>
          <p:nvPr/>
        </p:nvPicPr>
        <p:blipFill>
          <a:blip r:embed="rId3"/>
          <a:stretch/>
        </p:blipFill>
        <p:spPr>
          <a:xfrm>
            <a:off x="7881840" y="2779560"/>
            <a:ext cx="555840" cy="1944720"/>
          </a:xfrm>
          <a:prstGeom prst="rect">
            <a:avLst/>
          </a:prstGeom>
          <a:ln w="0">
            <a:noFill/>
          </a:ln>
        </p:spPr>
      </p:pic>
      <p:sp>
        <p:nvSpPr>
          <p:cNvPr id="129" name="Chave direita 14"/>
          <p:cNvSpPr/>
          <p:nvPr/>
        </p:nvSpPr>
        <p:spPr>
          <a:xfrm>
            <a:off x="7524720" y="2852640"/>
            <a:ext cx="216000" cy="1728720"/>
          </a:xfrm>
          <a:custGeom>
            <a:avLst/>
            <a:gdLst>
              <a:gd name="textAreaLeft" fmla="*/ 0 w 216000"/>
              <a:gd name="textAreaRight" fmla="*/ 78120 w 216000"/>
              <a:gd name="textAreaTop" fmla="*/ 5400 h 1728720"/>
              <a:gd name="textAreaBottom" fmla="*/ 17233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"/>
                  <a:pt x="10800" y="225"/>
                </a:cubicBezTo>
                <a:lnTo>
                  <a:pt x="10800" y="10575"/>
                </a:lnTo>
                <a:cubicBezTo>
                  <a:pt x="10800" y="10688"/>
                  <a:pt x="16200" y="10800"/>
                  <a:pt x="21600" y="10800"/>
                </a:cubicBezTo>
                <a:cubicBezTo>
                  <a:pt x="16200" y="10800"/>
                  <a:pt x="10800" y="10913"/>
                  <a:pt x="10800" y="11025"/>
                </a:cubicBezTo>
                <a:lnTo>
                  <a:pt x="10800" y="21375"/>
                </a:lnTo>
                <a:cubicBezTo>
                  <a:pt x="10800" y="21488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1280" y="819000"/>
            <a:ext cx="9001440" cy="5408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108000" bIns="0" anchor="ctr">
            <a:normAutofit/>
          </a:bodyPr>
          <a:p>
            <a:pPr lvl="1" marL="181080" indent="-181080" algn="just">
              <a:lnSpc>
                <a:spcPct val="14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Resolução nº 3.919, de 25.11.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Padronização dos serviç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Simplificação de tarifas ao por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82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d2d8a"/>
                </a:solidFill>
                <a:latin typeface="Arial"/>
                <a:ea typeface="Times New Roman"/>
              </a:rPr>
              <a:t>Majoração de preços após 365 dias do último valor divul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Divulgação e clareza de inform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82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d2d8a"/>
                </a:solidFill>
                <a:latin typeface="Arial"/>
                <a:ea typeface="Times New Roman"/>
              </a:rPr>
              <a:t>Planos de recompensa ou benefí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382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d2d8a"/>
                </a:solidFill>
                <a:latin typeface="Arial"/>
                <a:ea typeface="Times New Roman"/>
              </a:rPr>
              <a:t>Detalhamento de encargos e custo efetivo to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Encaminhamento de cartão de crédito somente a expressa solicitação do 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Possibilidade de cancelamento tempes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 algn="just">
              <a:lnSpc>
                <a:spcPct val="14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Circular nº 3.512, 25.11.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14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8a"/>
                </a:solidFill>
                <a:latin typeface="Arial"/>
                <a:ea typeface="Times New Roman"/>
              </a:rPr>
              <a:t>Limitação do valor do rotativo em relação ao total da fa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 algn="just">
              <a:lnSpc>
                <a:spcPct val="14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Maior transparência para o consumidor em relação 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8a"/>
                </a:solidFill>
                <a:latin typeface="Arial"/>
                <a:ea typeface="Times New Roman"/>
              </a:rPr>
              <a:t>tarifas, encargos financeiros , obrigações e direi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 algn="just">
              <a:lnSpc>
                <a:spcPct val="14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Endividamento mais restrito por meio do cartão de 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ço Reservado para Número de Slide 7"/>
          <p:cNvSpPr/>
          <p:nvPr/>
        </p:nvSpPr>
        <p:spPr>
          <a:xfrm>
            <a:off x="8640720" y="108000"/>
            <a:ext cx="3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22ED-239E-48AE-9906-4AD595F22E29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gulação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lação Emissor e Portador - Imp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alor médio da Tarifa de Anu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01520" y="1757520"/>
            <a:ext cx="885528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alor financiado no crédito rotativo sobre volume de comp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79200" y="1819440"/>
            <a:ext cx="901404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gulação de cartão de pag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enário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1280" y="1006200"/>
            <a:ext cx="9001440" cy="52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185760" indent="-185760">
              <a:spcAft>
                <a:spcPts val="689"/>
              </a:spcAft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8a"/>
                </a:solidFill>
                <a:latin typeface="Arial"/>
                <a:ea typeface="Times New Roman"/>
              </a:rPr>
              <a:t>Comunidade Europeia e Austrál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185760">
              <a:spcAft>
                <a:spcPts val="624"/>
              </a:spcAft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Intervenção das autoridades locais na tarifa de intercâmbio (cartão de crédito e débito): tarifa definida pelo mercado acima da tarifa ótima (bem-estar social) e, por ser resultado de acordo coletivo entre concor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185760">
              <a:spcAft>
                <a:spcPts val="624"/>
              </a:spcAft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livre diferenciação de preço em função do instrumento de pagamento (desconto ou sobrepreço), quando justificado, cada país pode decidir por não permitir o sobrepreç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89"/>
              </a:spcAft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8a"/>
                </a:solidFill>
                <a:latin typeface="Arial"/>
                <a:ea typeface="Times New Roman"/>
              </a:rPr>
              <a:t>EU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185760">
              <a:spcAft>
                <a:spcPts val="624"/>
              </a:spcAft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regulação: cartão de déb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185400">
              <a:spcAft>
                <a:spcPts val="561"/>
              </a:spcAft>
              <a:buClr>
                <a:srgbClr val="2d2d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d2d8a"/>
                </a:solidFill>
                <a:latin typeface="Arial"/>
                <a:ea typeface="Times New Roman"/>
              </a:rPr>
              <a:t>tarifa de intercâmbio limitada a um valor máximo obtido pela soma de US$ 0,21 por transação mais 0,05% do valor da transação (outubro 201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185400">
              <a:spcAft>
                <a:spcPts val="561"/>
              </a:spcAft>
              <a:buClr>
                <a:srgbClr val="2d2d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d2d8a"/>
                </a:solidFill>
                <a:latin typeface="Arial"/>
                <a:ea typeface="Times New Roman"/>
              </a:rPr>
              <a:t>proíbe arranjos de exclusividade de rede de processamento das transações (abril de 20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185760">
              <a:spcAft>
                <a:spcPts val="624"/>
              </a:spcAft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livre diferenciação de preço em função do instrumento de paga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914400"/>
            <a:ext cx="90727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3" marL="181080" indent="-181080">
              <a:spcBef>
                <a:spcPts val="1199"/>
              </a:spcBef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Objetivo do Banco 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450720" indent="-269640">
              <a:spcAft>
                <a:spcPts val="601"/>
              </a:spcAft>
              <a:buClr>
                <a:srgbClr val="2d2d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d2d8a"/>
                </a:solidFill>
                <a:latin typeface="Arial"/>
                <a:ea typeface="Times New Roman"/>
              </a:rPr>
              <a:t>segurança e eficiência do Sistema de Pagamentos Brasil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50720" indent="-269640">
              <a:spcAft>
                <a:spcPts val="601"/>
              </a:spcAft>
              <a:buClr>
                <a:srgbClr val="2d2d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d2d8a"/>
                </a:solidFill>
                <a:latin typeface="Arial"/>
                <a:ea typeface="Times New Roman"/>
              </a:rPr>
              <a:t>aumento do bem estar social na prestação de serviços de paga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080" indent="-181080">
              <a:spcBef>
                <a:spcPts val="1199"/>
              </a:spcBef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Estudo marco legal sobre arranjo de pagam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450720" indent="-269640">
              <a:spcAft>
                <a:spcPts val="601"/>
              </a:spcAft>
              <a:buClr>
                <a:srgbClr val="2d2d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d2d8a"/>
                </a:solidFill>
                <a:latin typeface="Arial"/>
                <a:ea typeface="Times New Roman"/>
              </a:rPr>
              <a:t>Competência CMN e Banco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080" indent="-181080">
              <a:spcBef>
                <a:spcPts val="601"/>
              </a:spcBef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Papeis complementares da Regulação e Auto-regul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siderações f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0" descr="capa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"/>
          <p:cNvSpPr/>
          <p:nvPr/>
        </p:nvSpPr>
        <p:spPr>
          <a:xfrm>
            <a:off x="71280" y="2857680"/>
            <a:ext cx="8998200" cy="16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rdilson Fernandes Queir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rdilson.queiroz@bcb.gov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+55 (61) 3414-23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949320"/>
            <a:ext cx="914400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262080" indent="-262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Fim das exclusividades entre credenciadores e proprietários de esqu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189000">
              <a:lnSpc>
                <a:spcPct val="90000"/>
              </a:lnSpc>
              <a:spcAft>
                <a:spcPts val="601"/>
              </a:spcAft>
              <a:buClr>
                <a:srgbClr val="000066"/>
              </a:buClr>
              <a:buSzPct val="120000"/>
              <a:buFont typeface="Wingdings" charset="2"/>
              <a:buChar char="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Novos credenci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189000">
              <a:lnSpc>
                <a:spcPct val="90000"/>
              </a:lnSpc>
              <a:spcAft>
                <a:spcPts val="601"/>
              </a:spcAft>
              <a:buClr>
                <a:srgbClr val="000066"/>
              </a:buClr>
              <a:buSzPct val="120000"/>
              <a:buFont typeface="Wingdings" charset="2"/>
              <a:buChar char="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Sistema de controle de garant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Agente neutro para a compensação e para a liquidação das trans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Desenvolvimento de esquema local de cartões de déb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Interoperabilidade parcial de serviços de 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Aumento na transparência das tarif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Auto-regulação do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igilância – relatório da indústria de cartão de pag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mpacto na indú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tângulo 8"/>
          <p:cNvSpPr/>
          <p:nvPr/>
        </p:nvSpPr>
        <p:spPr>
          <a:xfrm>
            <a:off x="4592520" y="1087560"/>
            <a:ext cx="3942000" cy="4522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tângulo 7"/>
          <p:cNvSpPr/>
          <p:nvPr/>
        </p:nvSpPr>
        <p:spPr>
          <a:xfrm>
            <a:off x="731880" y="1109520"/>
            <a:ext cx="3890880" cy="450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igil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volução da indústria – cartões emitidos e ativos (milhõ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69960" y="1139760"/>
            <a:ext cx="7843680" cy="44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igil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volução da indústria – quantidade de trans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60480" y="1036800"/>
            <a:ext cx="9043920" cy="52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ercentual das transações por modalidade do cartão – 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1685880"/>
            <a:ext cx="9177480" cy="36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ercentual das transações por forma de captura – 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1619280"/>
            <a:ext cx="9231480" cy="36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ercentual das transações por parcelamento – 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1619280"/>
            <a:ext cx="9231480" cy="36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280" y="108000"/>
            <a:ext cx="900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centração no mercado de emi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spaço Reservado para Número de Slide 3"/>
          <p:cNvSpPr/>
          <p:nvPr/>
        </p:nvSpPr>
        <p:spPr>
          <a:xfrm>
            <a:off x="8432640" y="108000"/>
            <a:ext cx="567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DE39-5C87-466F-8CED-CD11929803B6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ixaDeTexto 5"/>
          <p:cNvSpPr/>
          <p:nvPr/>
        </p:nvSpPr>
        <p:spPr>
          <a:xfrm>
            <a:off x="0" y="1006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CRÉD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ixaDeTexto 7"/>
          <p:cNvSpPr/>
          <p:nvPr/>
        </p:nvSpPr>
        <p:spPr>
          <a:xfrm>
            <a:off x="0" y="34243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DÉB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114560" y="1096920"/>
            <a:ext cx="6895800" cy="2751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1123920" y="3535200"/>
            <a:ext cx="6896160" cy="2751480"/>
          </a:xfrm>
          <a:prstGeom prst="rect">
            <a:avLst/>
          </a:prstGeom>
          <a:ln w="0">
            <a:noFill/>
          </a:ln>
        </p:spPr>
      </p:pic>
      <p:sp>
        <p:nvSpPr>
          <p:cNvPr id="107" name="CaixaDeTexto 10"/>
          <p:cNvSpPr/>
          <p:nvPr/>
        </p:nvSpPr>
        <p:spPr>
          <a:xfrm>
            <a:off x="1554120" y="2286000"/>
            <a:ext cx="61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IHH (2011) = 0,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ixaDeTexto 12"/>
          <p:cNvSpPr/>
          <p:nvPr/>
        </p:nvSpPr>
        <p:spPr>
          <a:xfrm>
            <a:off x="1565280" y="4826160"/>
            <a:ext cx="610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IHH (2011) = 0,19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280" y="108000"/>
            <a:ext cx="900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centração no mercado de credenci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spaço Reservado para Número de Slide 3"/>
          <p:cNvSpPr/>
          <p:nvPr/>
        </p:nvSpPr>
        <p:spPr>
          <a:xfrm>
            <a:off x="8432640" y="108000"/>
            <a:ext cx="567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A9EC-5296-4E24-AEE1-CF85803CB4B9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127160" y="1087560"/>
            <a:ext cx="6869160" cy="2697120"/>
          </a:xfrm>
          <a:prstGeom prst="rect">
            <a:avLst/>
          </a:prstGeom>
          <a:ln w="0">
            <a:noFill/>
          </a:ln>
        </p:spPr>
      </p:pic>
      <p:sp>
        <p:nvSpPr>
          <p:cNvPr id="112" name="CaixaDeTexto 5"/>
          <p:cNvSpPr/>
          <p:nvPr/>
        </p:nvSpPr>
        <p:spPr>
          <a:xfrm>
            <a:off x="0" y="1006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CRÉD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1073160" y="3525840"/>
            <a:ext cx="6896160" cy="2751120"/>
          </a:xfrm>
          <a:prstGeom prst="rect">
            <a:avLst/>
          </a:prstGeom>
          <a:ln w="0">
            <a:noFill/>
          </a:ln>
        </p:spPr>
      </p:pic>
      <p:sp>
        <p:nvSpPr>
          <p:cNvPr id="114" name="CaixaDeTexto 7"/>
          <p:cNvSpPr/>
          <p:nvPr/>
        </p:nvSpPr>
        <p:spPr>
          <a:xfrm>
            <a:off x="0" y="34336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DÉB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aixaDeTexto 11"/>
          <p:cNvSpPr/>
          <p:nvPr/>
        </p:nvSpPr>
        <p:spPr>
          <a:xfrm>
            <a:off x="1533600" y="1930320"/>
            <a:ext cx="618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IHH (2011) = 0,42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ixaDeTexto 12"/>
          <p:cNvSpPr/>
          <p:nvPr/>
        </p:nvSpPr>
        <p:spPr>
          <a:xfrm>
            <a:off x="1533600" y="4592520"/>
            <a:ext cx="62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IHH (2011) = 0,48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1T21:44:38Z</dcterms:created>
  <dc:creator>BACEN</dc:creator>
  <dc:description/>
  <dc:language>en-US</dc:language>
  <cp:lastModifiedBy>H</cp:lastModifiedBy>
  <cp:lastPrinted>2002-06-19T00:46:02Z</cp:lastPrinted>
  <dcterms:modified xsi:type="dcterms:W3CDTF">2012-07-05T14:41:24Z</dcterms:modified>
  <cp:revision>3090</cp:revision>
  <dc:subject/>
  <dc:title>Slide sem título</dc:title>
</cp:coreProperties>
</file>