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9DD0-029A-4CD8-90B1-E9FBD4BC3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2463-FD43-403A-86B2-6EF18F113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1050-C7CE-4F84-BF43-72D8152C2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3A66-3ABC-4511-B6FF-4C3E9B427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37DB-83D1-4BC1-8D2C-5D8FC51A7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A207-69CF-4DDC-9155-EE56A15CF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1071-5142-4A67-8914-3B73AEB19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86F1-2C82-4DE8-9207-C0985DA63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4F6D-09F3-4F7E-B2E1-75E260E3C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5243-743A-44E3-A033-6B904CEE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6997-7B64-4173-B193-A1EF28FF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28B2-6E1F-4895-95BE-E00846F5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1200" spc="-1" strike="noStrike">
                <a:solidFill>
                  <a:srgbClr val="898989"/>
                </a:solidFill>
                <a:latin typeface="Calibri"/>
                <a:ea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593CC8-F339-4F19-9105-23096455C343}" type="datetime">
              <a:rPr b="0" lang="pt-BR" sz="1200" spc="-1" strike="noStrike">
                <a:solidFill>
                  <a:srgbClr val="898989"/>
                </a:solidFill>
                <a:latin typeface="Calibri"/>
                <a:ea typeface="Geneva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1200" spc="-1" strike="noStrike">
                <a:solidFill>
                  <a:srgbClr val="898989"/>
                </a:solidFill>
                <a:latin typeface="Calibri"/>
                <a:ea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71B2E5-9AAD-422A-B3DC-C5213105D103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0" y="932040"/>
            <a:ext cx="914400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PANIFICAÇÃO E CONFEITARIA 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erformance do setor em 2011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José Joffre Nascimento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70B46C-DE1C-481A-BC62-5D86F53E5A57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9" name="Retângulo 3"/>
          <p:cNvSpPr/>
          <p:nvPr/>
        </p:nvSpPr>
        <p:spPr>
          <a:xfrm>
            <a:off x="0" y="0"/>
            <a:ext cx="914400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Motivos do crescimento do setor de Panificação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0" name="CaixaDeTexto 5"/>
          <p:cNvSpPr/>
          <p:nvPr/>
        </p:nvSpPr>
        <p:spPr>
          <a:xfrm>
            <a:off x="314280" y="1241280"/>
            <a:ext cx="8628120" cy="36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umento do emprego com redução do tempo de permanência das pessoas em casas, contribuindo com o aumento das refeições fora do lar – 30% no Brasil, enquanto nos EUA é de 42%;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essoas com mais dinheiro comem mais fora de casa e compram produtos com maior valor agregado;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odernização das empresas, inovando em equipamentos, processos e gestão administrativa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F6A6D4-3C40-4652-80AA-F2D9FB5CE1B7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2" name="Retângulo 3"/>
          <p:cNvSpPr/>
          <p:nvPr/>
        </p:nvSpPr>
        <p:spPr>
          <a:xfrm>
            <a:off x="0" y="0"/>
            <a:ext cx="914400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Motivos do crescimento do setor de Panificação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3" name="CaixaDeTexto 5"/>
          <p:cNvSpPr/>
          <p:nvPr/>
        </p:nvSpPr>
        <p:spPr>
          <a:xfrm>
            <a:off x="314280" y="1241280"/>
            <a:ext cx="86281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cesso  de 3,6 milhões de pessoas à classe  média; destes, 1,4 milhão vieram da classe E e 356 mil da classe D;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rescimento populacional de 1,6 milhão de pessoas entre 2010 e 2011;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rescimento do PIB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per capit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PL 806/20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Importante ação realizada em conjunto com panificadores de Sergi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23% das panificadoras brasileiras utilizam lenha como fonte energetic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Prazo para adequaçã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NR-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MTE. Atualiza redação da norma sobre equipamento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m vigor  Dezembro/2010 estabelece prazos para troca de equipamentos de 12 a 66 me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Panificação:Cilindro,Amassadeiras,batedeiras,modeladoras e demais máquin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NR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Mais de 30 seminários realizados pela entidade nacional de panificação sensibilizando o panificador quanto a necessidade da troca de equipamen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Sindicatos consiguiram abertura de credito junto as linhas de credito governamentais(BND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Responsabilidade Socio-Ambeint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Sacola Permane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Coleta de Óleo Comestível us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Coleta de P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desão a projetos da comunid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Forno Ver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Trabalho sendo realizado juntamente com o Inmetro,Abip,Abiepan(Fabricantes) e Sebra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Fornos ,fogões receberão selo relativo a sua eficiencia energétic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23915C-038B-47AA-A841-C821FD34B1B2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5" name="CaixaDeTexto 6"/>
          <p:cNvSpPr/>
          <p:nvPr/>
        </p:nvSpPr>
        <p:spPr>
          <a:xfrm>
            <a:off x="417600" y="779400"/>
            <a:ext cx="8269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Grande"/>
              </a:rPr>
              <a:t>ABIP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Grande"/>
              </a:rPr>
              <a:t>Associação Brasileira da Indústria da Panificação e Confeitaria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Lucida Grande"/>
              </a:rPr>
              <a:t>SHN Quadra 02 – Bloco H, nº 30, Sobreloja – Sala 55 – Mix Metropolitan Flat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Lucida Grande"/>
              </a:rPr>
              <a:t>Brasília/DF – Cep: 70.702-905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Lucida Grande"/>
              </a:rPr>
              <a:t>Tel: (61) 3327-3332 / (31) 3274-6376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Lucida Grande"/>
              </a:rPr>
              <a:t>www.abip.org.br / www.propan.com.br / propan@propan.com.br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447EF6-11A8-4EBA-AD1E-4AA526E9E962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" name="Retângulo 3"/>
          <p:cNvSpPr/>
          <p:nvPr/>
        </p:nvSpPr>
        <p:spPr>
          <a:xfrm>
            <a:off x="0" y="0"/>
            <a:ext cx="914400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Classificação das empresas por nº de funcionários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4" name="Gráfico 7" descr=""/>
          <p:cNvPicPr/>
          <p:nvPr/>
        </p:nvPicPr>
        <p:blipFill>
          <a:blip r:embed="rId1"/>
          <a:stretch/>
        </p:blipFill>
        <p:spPr>
          <a:xfrm>
            <a:off x="542880" y="731880"/>
            <a:ext cx="7839000" cy="5046480"/>
          </a:xfrm>
          <a:prstGeom prst="rect">
            <a:avLst/>
          </a:prstGeom>
          <a:ln w="0">
            <a:noFill/>
          </a:ln>
        </p:spPr>
      </p:pic>
      <p:sp>
        <p:nvSpPr>
          <p:cNvPr id="45" name="CaixaDeTexto 1"/>
          <p:cNvSpPr/>
          <p:nvPr/>
        </p:nvSpPr>
        <p:spPr>
          <a:xfrm>
            <a:off x="5756400" y="6432480"/>
            <a:ext cx="2368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Fonte: ABIP/Propan - 2009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FE09E0-0A26-44FF-B4AD-4DEAAC986BEF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7" name="Retângulo 3"/>
          <p:cNvSpPr/>
          <p:nvPr/>
        </p:nvSpPr>
        <p:spPr>
          <a:xfrm>
            <a:off x="0" y="0"/>
            <a:ext cx="914400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Performance do Setor de Panificação e Confeitaria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8" name="Gráfico 5" descr=""/>
          <p:cNvPicPr/>
          <p:nvPr/>
        </p:nvPicPr>
        <p:blipFill>
          <a:blip r:embed="rId1"/>
          <a:stretch/>
        </p:blipFill>
        <p:spPr>
          <a:xfrm>
            <a:off x="-6480" y="0"/>
            <a:ext cx="915696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BF8626-BD37-48DC-A549-E44F92FE64A9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" name="Retângulo 3"/>
          <p:cNvSpPr/>
          <p:nvPr/>
        </p:nvSpPr>
        <p:spPr>
          <a:xfrm>
            <a:off x="0" y="0"/>
            <a:ext cx="914400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Setor de Panificação - Indicadores 2011  - Descontados a Inflação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1" name="Gráfico 4" descr=""/>
          <p:cNvPicPr/>
          <p:nvPr/>
        </p:nvPicPr>
        <p:blipFill>
          <a:blip r:embed="rId1"/>
          <a:stretch/>
        </p:blipFill>
        <p:spPr>
          <a:xfrm>
            <a:off x="0" y="0"/>
            <a:ext cx="8369280" cy="53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24B2C5-8B40-4B0D-9E0B-B01CC2BC8A71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3" name="Retângulo 3"/>
          <p:cNvSpPr/>
          <p:nvPr/>
        </p:nvSpPr>
        <p:spPr>
          <a:xfrm>
            <a:off x="0" y="0"/>
            <a:ext cx="914400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Evolução do Faturamento - em Bilhões de Reais e %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4" name="Gráfico 6" descr=""/>
          <p:cNvPicPr/>
          <p:nvPr/>
        </p:nvPicPr>
        <p:blipFill>
          <a:blip r:embed="rId1"/>
          <a:stretch/>
        </p:blipFill>
        <p:spPr>
          <a:xfrm>
            <a:off x="-6480" y="731880"/>
            <a:ext cx="9156960" cy="58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066470-4016-431B-ADA0-977713D85678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6" name="Retângulo 3"/>
          <p:cNvSpPr/>
          <p:nvPr/>
        </p:nvSpPr>
        <p:spPr>
          <a:xfrm>
            <a:off x="0" y="0"/>
            <a:ext cx="914400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Performance do Setor de Panificação e Confeitaria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7" name="Retângulo 7"/>
          <p:cNvSpPr/>
          <p:nvPr/>
        </p:nvSpPr>
        <p:spPr>
          <a:xfrm>
            <a:off x="4572000" y="5202360"/>
            <a:ext cx="45720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Lucida Grande"/>
              </a:rPr>
              <a:t>*Valor estimado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Lucida Grande"/>
              </a:rPr>
              <a:t>**Fonte:ITPC/Propan – 2012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Lucida Grande"/>
              </a:rPr>
              <a:t>***Comparado com o ano anterior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03200" y="752400"/>
          <a:ext cx="8269200" cy="4373640"/>
        </p:xfrm>
        <a:graphic>
          <a:graphicData uri="http://schemas.openxmlformats.org/drawingml/2006/table">
            <a:tbl>
              <a:tblPr/>
              <a:tblGrid>
                <a:gridCol w="992160"/>
                <a:gridCol w="2306520"/>
                <a:gridCol w="1824120"/>
                <a:gridCol w="1654200"/>
                <a:gridCol w="1492200"/>
              </a:tblGrid>
              <a:tr h="482760">
                <a:tc gridSpan="5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ipação do Setor de Panificação no PIB Brasileir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8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turamento**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scimento do setor 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B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ipação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512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98 bilh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3 trilh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538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61 bilh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6 trilh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538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,98 bilh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9 trilh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523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,52 bilh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 trilh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6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5256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,30 bilhõ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7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7 trilhõ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484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,99 bilhõ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8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8 trilhões*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6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90E836-BB5D-4607-9F7F-C5CFC087EECA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0" name="Retângulo 3"/>
          <p:cNvSpPr/>
          <p:nvPr/>
        </p:nvSpPr>
        <p:spPr>
          <a:xfrm>
            <a:off x="0" y="0"/>
            <a:ext cx="914400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Evolução de outros três Indicadores do Setor de Panificação (em %)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2006 - 2011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61" name="Gráfico 4" descr=""/>
          <p:cNvPicPr/>
          <p:nvPr/>
        </p:nvPicPr>
        <p:blipFill>
          <a:blip r:embed="rId1"/>
          <a:stretch/>
        </p:blipFill>
        <p:spPr>
          <a:xfrm>
            <a:off x="609480" y="652320"/>
            <a:ext cx="763920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5060F5-62D4-40FE-AED9-7B9E71846DDE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3" name="Retângulo 3"/>
          <p:cNvSpPr/>
          <p:nvPr/>
        </p:nvSpPr>
        <p:spPr>
          <a:xfrm>
            <a:off x="0" y="119160"/>
            <a:ext cx="9144000" cy="88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c00000"/>
                </a:solidFill>
                <a:latin typeface="Calibri"/>
              </a:rPr>
              <a:t>Desempenho do Setor em 2011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4" name="CaixaDeTexto 5"/>
          <p:cNvSpPr/>
          <p:nvPr/>
        </p:nvSpPr>
        <p:spPr>
          <a:xfrm>
            <a:off x="266760" y="1522440"/>
            <a:ext cx="8686800" cy="36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fluxo de pessoas atingiu a marca de 43,23 milhões de pessoas, quase 1 milhão a mais do que o ano de 2010;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c00000"/>
                </a:solidFill>
                <a:latin typeface="Arial"/>
              </a:rPr>
              <a:t>As vendas de produtos de produção própria – R$ 32,12 bilhões –  representaram 51% do faturamento total de R$ 62,99 bilhões;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projeção do faturamento abrange cerca de 20% de empresas informais do setor;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A3F29E-6C97-429A-9469-95FF7B5E8408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6" name="Retângulo 3"/>
          <p:cNvSpPr/>
          <p:nvPr/>
        </p:nvSpPr>
        <p:spPr>
          <a:xfrm>
            <a:off x="0" y="190440"/>
            <a:ext cx="9144000" cy="73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c00000"/>
                </a:solidFill>
                <a:latin typeface="Calibri"/>
              </a:rPr>
              <a:t>Desempenho do Setor em 2011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7" name="CaixaDeTexto 5"/>
          <p:cNvSpPr/>
          <p:nvPr/>
        </p:nvSpPr>
        <p:spPr>
          <a:xfrm>
            <a:off x="343080" y="649440"/>
            <a:ext cx="821052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Lucida Grande"/>
              </a:rPr>
              <a:t>O setor de panificação  vem contribuindo consideravelmente, nos últimos anos, para o crescimento  do </a:t>
            </a:r>
            <a:r>
              <a:rPr b="0" i="1" lang="pt-BR" sz="2000" spc="-1" strike="noStrike">
                <a:solidFill>
                  <a:srgbClr val="c00000"/>
                </a:solidFill>
                <a:latin typeface="Lucida Grande"/>
              </a:rPr>
              <a:t>food service </a:t>
            </a:r>
            <a:r>
              <a:rPr b="0" lang="pt-BR" sz="2000" spc="-1" strike="noStrike">
                <a:solidFill>
                  <a:srgbClr val="000000"/>
                </a:solidFill>
                <a:latin typeface="Lucida Grande"/>
              </a:rPr>
              <a:t>no Brasil. Em 2011 a participação aproximada foi   de 36,05% do  faturamento de R$ 89,1 bilhões do </a:t>
            </a:r>
            <a:r>
              <a:rPr b="0" i="1" lang="pt-BR" sz="2000" spc="-1" strike="noStrike">
                <a:solidFill>
                  <a:srgbClr val="000000"/>
                </a:solidFill>
                <a:latin typeface="Lucida Grande"/>
              </a:rPr>
              <a:t>food service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c00000"/>
                </a:solidFill>
                <a:latin typeface="Lucida Grande"/>
              </a:rPr>
              <a:t>Aumento de 2,8% no número de postos de trabalhos gerados em 2011, Isso representa  21 mil funcionários contratados pelas padarias;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Lucida Grande"/>
              </a:rPr>
              <a:t>O setor emprega  cerca de 779 mil empregos diretos e 1,8 milhão de forma indireta;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3T14:42:51Z</dcterms:created>
  <dc:creator>Alysson</dc:creator>
  <dc:description/>
  <dc:language>en-US</dc:language>
  <cp:lastModifiedBy>Usuário</cp:lastModifiedBy>
  <dcterms:modified xsi:type="dcterms:W3CDTF">2012-07-04T12:07:49Z</dcterms:modified>
  <cp:revision>221</cp:revision>
  <dc:subject/>
  <dc:title>Slide 1</dc:title>
</cp:coreProperties>
</file>