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C49-6B52-400C-B11A-865E77E0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5B6-6C2D-4B3E-963F-7C22E72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E60-8AC2-4897-9F72-94210940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1FD-BD5D-442D-BAE5-0B65BEA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F3A-9205-4232-9F55-3F49BBA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0A2-A7A1-4C13-A28E-A71B22A7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C4F-BEF9-4FE6-9CB2-30A911C5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111-DACD-4416-9280-442EAD3A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B75-0BE1-4BDB-A6FA-B7D3B7B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8DF-B547-45E5-ADBD-5AA575E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8F0-E33E-4119-B7D1-CC54C1F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3F2-D4E7-4578-8E9C-A602454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710A-836E-498B-8155-07A690C0281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1"/>
          <p:cNvSpPr/>
          <p:nvPr/>
        </p:nvSpPr>
        <p:spPr>
          <a:xfrm>
            <a:off x="1428840" y="207180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Ferrovia Senador Vicente Vuolo no trecho Rondonópolis-Cuiab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Fernando\Pictures\Ferronorte\ferrovia_3.jpg"/>
          <p:cNvPicPr/>
          <p:nvPr/>
        </p:nvPicPr>
        <p:blipFill>
          <a:blip r:embed="rId4"/>
          <a:stretch/>
        </p:blipFill>
        <p:spPr>
          <a:xfrm>
            <a:off x="2779560" y="3352680"/>
            <a:ext cx="36705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"/>
          <p:cNvPicPr/>
          <p:nvPr/>
        </p:nvPicPr>
        <p:blipFill>
          <a:blip r:embed="rId1"/>
          <a:stretch/>
        </p:blipFill>
        <p:spPr>
          <a:xfrm>
            <a:off x="133200" y="1190520"/>
            <a:ext cx="8877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"/>
          <p:cNvPicPr/>
          <p:nvPr/>
        </p:nvPicPr>
        <p:blipFill>
          <a:blip r:embed="rId1"/>
          <a:srcRect l="0" t="0" r="0" b="35942"/>
          <a:stretch/>
        </p:blipFill>
        <p:spPr>
          <a:xfrm>
            <a:off x="125280" y="1123920"/>
            <a:ext cx="889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"/>
          <p:cNvPicPr/>
          <p:nvPr/>
        </p:nvPicPr>
        <p:blipFill>
          <a:blip r:embed="rId1"/>
          <a:srcRect l="0" t="63947" r="0" b="0"/>
          <a:stretch/>
        </p:blipFill>
        <p:spPr>
          <a:xfrm>
            <a:off x="125280" y="658800"/>
            <a:ext cx="8893440" cy="1662120"/>
          </a:xfrm>
          <a:prstGeom prst="rect">
            <a:avLst/>
          </a:prstGeom>
          <a:ln w="0">
            <a:noFill/>
          </a:ln>
        </p:spPr>
      </p:pic>
      <p:pic>
        <p:nvPicPr>
          <p:cNvPr id="97" name="Imagem 2" descr=""/>
          <p:cNvPicPr/>
          <p:nvPr/>
        </p:nvPicPr>
        <p:blipFill>
          <a:blip r:embed="rId2"/>
          <a:stretch/>
        </p:blipFill>
        <p:spPr>
          <a:xfrm>
            <a:off x="125280" y="2301840"/>
            <a:ext cx="8893440" cy="441324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3"/>
          <p:cNvSpPr/>
          <p:nvPr/>
        </p:nvSpPr>
        <p:spPr>
          <a:xfrm>
            <a:off x="1428840" y="214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IA / 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22400" y="961920"/>
            <a:ext cx="88992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"/>
          <p:cNvPicPr/>
          <p:nvPr/>
        </p:nvPicPr>
        <p:blipFill>
          <a:blip r:embed="rId1"/>
          <a:stretch/>
        </p:blipFill>
        <p:spPr>
          <a:xfrm>
            <a:off x="127080" y="866880"/>
            <a:ext cx="88898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"/>
          <p:cNvPicPr/>
          <p:nvPr/>
        </p:nvPicPr>
        <p:blipFill>
          <a:blip r:embed="rId1"/>
          <a:stretch/>
        </p:blipFill>
        <p:spPr>
          <a:xfrm>
            <a:off x="125280" y="852480"/>
            <a:ext cx="8893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"/>
          <p:cNvPicPr/>
          <p:nvPr/>
        </p:nvPicPr>
        <p:blipFill>
          <a:blip r:embed="rId1"/>
          <a:stretch/>
        </p:blipFill>
        <p:spPr>
          <a:xfrm>
            <a:off x="123840" y="554040"/>
            <a:ext cx="88963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i.imagehost.org/0282/Estadual-Ferronorte-04.jpg"/>
          <p:cNvPicPr/>
          <p:nvPr/>
        </p:nvPicPr>
        <p:blipFill>
          <a:blip r:embed="rId1"/>
          <a:stretch/>
        </p:blipFill>
        <p:spPr>
          <a:xfrm>
            <a:off x="2066760" y="1279440"/>
            <a:ext cx="4675320" cy="351180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3"/>
          <p:cNvSpPr/>
          <p:nvPr/>
        </p:nvSpPr>
        <p:spPr>
          <a:xfrm>
            <a:off x="2428920" y="5072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4"/>
          <p:cNvSpPr/>
          <p:nvPr/>
        </p:nvSpPr>
        <p:spPr>
          <a:xfrm>
            <a:off x="1000080" y="2000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NVOLVIMENTO DA UFM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5"/>
          <p:cNvSpPr/>
          <p:nvPr/>
        </p:nvSpPr>
        <p:spPr>
          <a:xfrm>
            <a:off x="1714680" y="2857680"/>
            <a:ext cx="64292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vento no Palácio do Gov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ormalização junto à Re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struturação das Equipes T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safio Técnico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857160" y="19288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PLANOS DE TRABALH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7"/>
          <p:cNvSpPr/>
          <p:nvPr/>
        </p:nvSpPr>
        <p:spPr>
          <a:xfrm>
            <a:off x="1285920" y="2792520"/>
            <a:ext cx="71438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ojeto Concei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ojeto Básico de Engenharia Ferrovi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Estudo de Impacto Ambiental e Relatório de Impactos sobre o Meio Ambiente (EIA-R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Prazo de Execução: 15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7"/>
          <p:cNvSpPr/>
          <p:nvPr/>
        </p:nvSpPr>
        <p:spPr>
          <a:xfrm>
            <a:off x="928800" y="192888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Coordenaçã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8"/>
          <p:cNvSpPr/>
          <p:nvPr/>
        </p:nvSpPr>
        <p:spPr>
          <a:xfrm>
            <a:off x="1500120" y="257184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rof. Dr. Luiz Miguel de Mira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Prof. Dr. Sergio Luiz Moraes Magalhã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9"/>
          <p:cNvSpPr/>
          <p:nvPr/>
        </p:nvSpPr>
        <p:spPr>
          <a:xfrm>
            <a:off x="928800" y="378612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Coordenação Téc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1500120" y="457668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ngenharia Civil: Prof. Dr. Luiz Miguel de Mira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Físico: Prof. Dr. Fernando Ximenes de Tavares Salom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Biótico: Profª. Drª. Temilze Gomes Dua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eio Sócio-Econômico:  Prof. Dr. Luiz da Rosa Garcia N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5"/>
          <p:cNvSpPr/>
          <p:nvPr/>
        </p:nvSpPr>
        <p:spPr>
          <a:xfrm>
            <a:off x="928800" y="189540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rojeto Concei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6"/>
          <p:cNvSpPr/>
          <p:nvPr/>
        </p:nvSpPr>
        <p:spPr>
          <a:xfrm>
            <a:off x="1500120" y="250020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Conjunto de informações sobre as alternativas de traçados e suas áreas de influência com os devidos custos ambient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1928880" y="3429000"/>
            <a:ext cx="62150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Diagnóstic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Estudos de Traç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5"/>
          <p:cNvSpPr/>
          <p:nvPr/>
        </p:nvSpPr>
        <p:spPr>
          <a:xfrm>
            <a:off x="928800" y="17859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Projeto Básico de Engenharia Ferroviá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214280" y="2390760"/>
            <a:ext cx="721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O Projeto Básico de Engenharia Ferroviária reunirá o conjunto de elementos que permitirão estimar o custo da obra e definir os métodos e prazos de execução do projeto, permitindo o detalhamento do projeto execu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1428840" y="3857760"/>
            <a:ext cx="2786040" cy="247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Ge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Hid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Topográ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Geo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studos Ambi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8"/>
          <p:cNvSpPr/>
          <p:nvPr/>
        </p:nvSpPr>
        <p:spPr>
          <a:xfrm>
            <a:off x="4357800" y="3857760"/>
            <a:ext cx="3857400" cy="247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Terraplen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Dren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subl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obras de arte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Obras Complement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rojeto de Super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1"/>
          <p:cNvSpPr/>
          <p:nvPr/>
        </p:nvSpPr>
        <p:spPr>
          <a:xfrm>
            <a:off x="571680" y="1714680"/>
            <a:ext cx="8001000" cy="47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Fernando\Pictures\Ferronorte\ferrovia_integracao_centro_oeste.jpg"/>
          <p:cNvPicPr/>
          <p:nvPr/>
        </p:nvPicPr>
        <p:blipFill>
          <a:blip r:embed="rId1"/>
          <a:stretch/>
        </p:blipFill>
        <p:spPr>
          <a:xfrm>
            <a:off x="566640" y="-6480"/>
            <a:ext cx="8010720" cy="17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Fernando\Pictures\Ferronorte\ufmt.jpg"/>
          <p:cNvPicPr/>
          <p:nvPr/>
        </p:nvPicPr>
        <p:blipFill>
          <a:blip r:embed="rId2"/>
          <a:stretch/>
        </p:blipFill>
        <p:spPr>
          <a:xfrm>
            <a:off x="3333600" y="281160"/>
            <a:ext cx="1049400" cy="246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Fernando\Pictures\Ferronorte\antt.jpg"/>
          <p:cNvPicPr/>
          <p:nvPr/>
        </p:nvPicPr>
        <p:blipFill>
          <a:blip r:embed="rId3"/>
          <a:stretch/>
        </p:blipFill>
        <p:spPr>
          <a:xfrm>
            <a:off x="4784760" y="281160"/>
            <a:ext cx="2012760" cy="246204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5"/>
          <p:cNvSpPr/>
          <p:nvPr/>
        </p:nvSpPr>
        <p:spPr>
          <a:xfrm>
            <a:off x="928800" y="189540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ESTUDOS DE IMPACTOS AMBIENTAIS E RELATÓRIO DE IMPACTO AMBIENTAL – EIA/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6"/>
          <p:cNvSpPr/>
          <p:nvPr/>
        </p:nvSpPr>
        <p:spPr>
          <a:xfrm>
            <a:off x="1500120" y="2720880"/>
            <a:ext cx="671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junto de atividades voltadas à elaboração de Diagnósticos dos diversos meios (físico, biótico e socioeconômico) e realização de Análise Integrada das informações, Prognósticos, Identificação e Avaliação de Impactos Ambientais, definição de Medidas Mitigadoras / Compensatórias e proposição de Programas e Planos Ambi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"/>
          <p:cNvPicPr/>
          <p:nvPr/>
        </p:nvPicPr>
        <p:blipFill>
          <a:blip r:embed="rId1"/>
          <a:srcRect l="0" t="0" r="0" b="52314"/>
          <a:stretch/>
        </p:blipFill>
        <p:spPr>
          <a:xfrm>
            <a:off x="125280" y="1300320"/>
            <a:ext cx="8893440" cy="258264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2"/>
          <p:cNvSpPr/>
          <p:nvPr/>
        </p:nvSpPr>
        <p:spPr>
          <a:xfrm>
            <a:off x="285840" y="21420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ONOGRAM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3"/>
          <p:cNvSpPr/>
          <p:nvPr/>
        </p:nvSpPr>
        <p:spPr>
          <a:xfrm>
            <a:off x="1428840" y="84456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JETO CONCE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"/>
          <p:cNvPicPr/>
          <p:nvPr/>
        </p:nvPicPr>
        <p:blipFill>
          <a:blip r:embed="rId1"/>
          <a:srcRect l="0" t="47419" r="0" b="0"/>
          <a:stretch/>
        </p:blipFill>
        <p:spPr>
          <a:xfrm>
            <a:off x="125280" y="642960"/>
            <a:ext cx="8893440" cy="284796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2"/>
          <p:cNvSpPr/>
          <p:nvPr/>
        </p:nvSpPr>
        <p:spPr>
          <a:xfrm>
            <a:off x="1428840" y="214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JETO BÁSICO DE ENGENHARIA FERROVI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3" descr=""/>
          <p:cNvPicPr/>
          <p:nvPr/>
        </p:nvPicPr>
        <p:blipFill>
          <a:blip r:embed="rId2"/>
          <a:srcRect l="0" t="0" r="0" b="42829"/>
          <a:stretch/>
        </p:blipFill>
        <p:spPr>
          <a:xfrm>
            <a:off x="133200" y="3511440"/>
            <a:ext cx="8877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3:48:33Z</dcterms:created>
  <dc:creator>Fernando</dc:creator>
  <dc:description/>
  <dc:language>en-US</dc:language>
  <cp:lastModifiedBy>Fernando</cp:lastModifiedBy>
  <dcterms:modified xsi:type="dcterms:W3CDTF">2012-06-01T15:21:58Z</dcterms:modified>
  <cp:revision>15</cp:revision>
  <dc:subject/>
  <dc:title>Slide 1</dc:title>
</cp:coreProperties>
</file>