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16EC-2C41-4365-BDBE-DF0D42789E1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8AFB-A887-4F0C-82F4-7001B8D609D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10D4-C34B-482D-839A-403635D0875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3B38-F835-44EE-8AC5-09B1078BCF0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D1EA-F5A8-4D17-9E2B-74E2C0E1CB2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B7A-62A3-4F9C-B747-70B5D2DF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415-F35A-4C83-8FA4-48A79F47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943-0277-4B52-B50D-04BA234E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194-78DF-4EAA-B102-2AD13BC4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3D8-0595-4EBC-B020-1F05AD3C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E6E-92FF-4686-B047-895AACF8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B22-5FA6-4B44-948A-9D14B686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6B2-8A89-4E80-96B1-325DF1B6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3FB-56A2-4402-84ED-6AEB300D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148-9568-40CD-9D97-D9497500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1D0-A5CC-4054-AA4E-66A0E721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88E-3C6E-4D82-BD69-7885D3D8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D969-05A5-4922-9FFC-BCA96165961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thiana.batista\Desktop\Institucional\Marca Sebrae\Sebrae Mato Grosso_HORIZONTAL.jpg"/>
          <p:cNvPicPr/>
          <p:nvPr/>
        </p:nvPicPr>
        <p:blipFill>
          <a:blip r:embed="rId1"/>
          <a:stretch/>
        </p:blipFill>
        <p:spPr>
          <a:xfrm>
            <a:off x="1833480" y="2428920"/>
            <a:ext cx="54770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8000" y="907920"/>
          <a:ext cx="7893000" cy="8320320"/>
        </p:xfrm>
        <a:graphic>
          <a:graphicData uri="http://schemas.openxmlformats.org/drawingml/2006/table">
            <a:tbl>
              <a:tblPr/>
              <a:tblGrid>
                <a:gridCol w="7893000"/>
              </a:tblGrid>
              <a:tr h="1838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jetos da Agencia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 Atendimento Empresarial na Região de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170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Comercio na Região de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- Industria  na Região de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476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- Serviços na Região de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4676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95280" y="260280"/>
          <a:ext cx="8001000" cy="85456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Atendimento Empresarial na Região de Rondonópo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16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852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oposta do projeto é de atender no exercício de 2012 no mínimo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 empreendedores individuais; 1.623 micro empresas e 670 empresas de pequeno porte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70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is açõe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ção técnica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e palestr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8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476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4676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9640" y="189000"/>
          <a:ext cx="8105760" cy="8315280"/>
        </p:xfrm>
        <a:graphic>
          <a:graphicData uri="http://schemas.openxmlformats.org/drawingml/2006/table">
            <a:tbl>
              <a:tblPr/>
              <a:tblGrid>
                <a:gridCol w="8105760"/>
              </a:tblGrid>
              <a:tr h="74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Comércio na Região de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40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3120">
                <a:tc>
                  <a:txBody>
                    <a:bodyPr lIns="42840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oposta do projeto é de atender em 2012 no mínimo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micro empresas e 100 empresas de pequeno porte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o setor de comérci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4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42840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ais açõ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3120">
                <a:tc>
                  <a:txBody>
                    <a:bodyPr lIns="42840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nsultoria em gestão empresarial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nsultoria tecnológica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cesso a mercado (missõe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4284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6840">
                <a:tc>
                  <a:txBody>
                    <a:bodyPr lIns="42840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4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755640" y="382680"/>
          <a:ext cx="7643880" cy="1005840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74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- Indústria na Região de 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276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oposta do projeto é de atender em 2012 no mínimo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micro empresas e 30 empresas de pequeno porte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o setor de indústria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58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ais açõ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oria em gestão empresarial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oria tecnológica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ões técnica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º Seminário Regional da Construção Civil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º Seminário Regional da Alimentaçã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624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060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11280" y="404640"/>
          <a:ext cx="8215200" cy="10212480"/>
        </p:xfrm>
        <a:graphic>
          <a:graphicData uri="http://schemas.openxmlformats.org/drawingml/2006/table">
            <a:tbl>
              <a:tblPr/>
              <a:tblGrid>
                <a:gridCol w="8215200"/>
              </a:tblGrid>
              <a:tr h="110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- Serviços de Reparação de Veículos na Região de Rondonó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276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oposta deste projeto em 2012 é de atender no mínimo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micro empresas e 10 empresas de pequeno porte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setor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58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ais açõ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oria em Gestão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oria tecnológica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peção Veicular gratuita (4ª edição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º Encontro Estadual de reparadores de veículo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de Certificação de Qualidade Automotiva (10 empresa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0208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380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755640" y="382680"/>
          <a:ext cx="7643880" cy="770724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I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34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SON TENORIO CARD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ENTE DO SEBRAE EM RONDONOPO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E 66 3423 14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son.cardoso@mt.sebrae.com.b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624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4287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1320">
                <a:tc>
                  <a:txBody>
                    <a:bodyPr lIns="4287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87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Users\thiana.batista\Desktop\Mapa.png"/>
          <p:cNvPicPr/>
          <p:nvPr/>
        </p:nvPicPr>
        <p:blipFill>
          <a:blip r:embed="rId1"/>
          <a:stretch/>
        </p:blipFill>
        <p:spPr>
          <a:xfrm>
            <a:off x="826920" y="907920"/>
            <a:ext cx="7651800" cy="493560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1"/>
          <p:cNvSpPr/>
          <p:nvPr/>
        </p:nvSpPr>
        <p:spPr>
          <a:xfrm>
            <a:off x="468360" y="544500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141 Municíp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Área (Km²): 903.329,7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opulação: 3.035.122 ha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ítulo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Presença do SEBRAE no Estado de Mato Gross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ixaDeTexto 1"/>
          <p:cNvSpPr/>
          <p:nvPr/>
        </p:nvSpPr>
        <p:spPr>
          <a:xfrm>
            <a:off x="1042920" y="379404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r uma organização de desenvolvimento, séria e ética, gerando alternativas de soluções para nossos clientes tornarem-se competitivos, alinhados à sustentabilidade da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ítulo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Missão do SEBRAE no Estado de Mato Gross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C:\Users\thiana.batista\Desktop\Sebrae.jpg"/>
          <p:cNvPicPr/>
          <p:nvPr/>
        </p:nvPicPr>
        <p:blipFill>
          <a:blip r:embed="rId1"/>
          <a:stretch/>
        </p:blipFill>
        <p:spPr>
          <a:xfrm>
            <a:off x="314280" y="1628640"/>
            <a:ext cx="8505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4360" y="1125360"/>
          <a:ext cx="6335640" cy="4680000"/>
        </p:xfrm>
        <a:graphic>
          <a:graphicData uri="http://schemas.openxmlformats.org/drawingml/2006/table">
            <a:tbl>
              <a:tblPr/>
              <a:tblGrid>
                <a:gridCol w="4464000"/>
                <a:gridCol w="1871640"/>
              </a:tblGrid>
              <a:tr h="638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 Mobilizad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/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5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Ampliar o número de empresas atendidas pelo Sistema Sebr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5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Contribuir para a Formalização de Empreendedores Individu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8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1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Ampliar a quantidade de empresas atendidas pelo Sebrae com soluções específicas de inov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5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Ampliar o número de pequenas empresas atendidas pelo Sebr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4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Ampliar o número de municípios com a Lei Geral implement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" name="Título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Metas Mobilizadoras do Sebrae/MT para o an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iagrama 3" descr=""/>
          <p:cNvPicPr/>
          <p:nvPr/>
        </p:nvPicPr>
        <p:blipFill>
          <a:blip r:embed="rId1"/>
          <a:stretch/>
        </p:blipFill>
        <p:spPr>
          <a:xfrm>
            <a:off x="469800" y="1341360"/>
            <a:ext cx="8204400" cy="5040360"/>
          </a:xfrm>
          <a:prstGeom prst="rect">
            <a:avLst/>
          </a:prstGeom>
          <a:ln w="0">
            <a:noFill/>
          </a:ln>
        </p:spPr>
      </p:pic>
      <p:sp>
        <p:nvSpPr>
          <p:cNvPr id="60" name="CaixaDeTexto 5"/>
          <p:cNvSpPr/>
          <p:nvPr/>
        </p:nvSpPr>
        <p:spPr>
          <a:xfrm>
            <a:off x="333360" y="5757840"/>
            <a:ext cx="30970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i Complementar nº 128/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*Faturamento anual de até R$ 60.000,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ixaDeTexto 7"/>
          <p:cNvSpPr/>
          <p:nvPr/>
        </p:nvSpPr>
        <p:spPr>
          <a:xfrm>
            <a:off x="5935680" y="4797360"/>
            <a:ext cx="288936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Pessoas físicas com ou sem atividade econôm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ixaDeTexto 8"/>
          <p:cNvSpPr/>
          <p:nvPr/>
        </p:nvSpPr>
        <p:spPr>
          <a:xfrm>
            <a:off x="324000" y="1125360"/>
            <a:ext cx="287964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i Complementar nº 123/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pt-BR" sz="1200" spc="-1" strike="noStrike">
                <a:solidFill>
                  <a:srgbClr val="0070c0"/>
                </a:solidFill>
                <a:latin typeface="Calibri"/>
              </a:rPr>
              <a:t>Micro Empresa </a:t>
            </a: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– Faturamento anual de R$ 360.000,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pt-BR" sz="1200" spc="-1" strike="noStrike">
                <a:solidFill>
                  <a:srgbClr val="0070c0"/>
                </a:solidFill>
                <a:latin typeface="Calibri"/>
              </a:rPr>
              <a:t>Pequena Empresa </a:t>
            </a: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– Faturamento anual de R$ 3.600.000,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ixaDeTexto 10"/>
          <p:cNvSpPr/>
          <p:nvPr/>
        </p:nvSpPr>
        <p:spPr>
          <a:xfrm>
            <a:off x="6012000" y="1125360"/>
            <a:ext cx="273672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70c0"/>
                </a:solidFill>
                <a:latin typeface="Arial"/>
              </a:rPr>
              <a:t>Produtores Rurais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Com registro próprio nos órgãos reguladores estaduais e/ou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Conector de seta reta 13"/>
          <p:cNvCxnSpPr/>
          <p:nvPr/>
        </p:nvCxnSpPr>
        <p:spPr>
          <a:xfrm>
            <a:off x="3276720" y="1915920"/>
            <a:ext cx="54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5" name="Conector de seta reta 17"/>
          <p:cNvCxnSpPr/>
          <p:nvPr/>
        </p:nvCxnSpPr>
        <p:spPr>
          <a:xfrm>
            <a:off x="5508720" y="1557000"/>
            <a:ext cx="504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6" name="Conector de seta reta 21"/>
          <p:cNvCxnSpPr/>
          <p:nvPr/>
        </p:nvCxnSpPr>
        <p:spPr>
          <a:xfrm flipV="1">
            <a:off x="1692000" y="4508280"/>
            <a:ext cx="1080" cy="115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" name="Conector de seta reta 25"/>
          <p:cNvCxnSpPr/>
          <p:nvPr/>
        </p:nvCxnSpPr>
        <p:spPr>
          <a:xfrm flipV="1">
            <a:off x="7307280" y="3788640"/>
            <a:ext cx="2160" cy="864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8" name="Título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Clientes prioritários do Sebrae/M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Diagrama 5" descr=""/>
          <p:cNvPicPr/>
          <p:nvPr/>
        </p:nvPicPr>
        <p:blipFill>
          <a:blip r:embed="rId1"/>
          <a:stretch/>
        </p:blipFill>
        <p:spPr>
          <a:xfrm>
            <a:off x="396720" y="762120"/>
            <a:ext cx="8350560" cy="5400720"/>
          </a:xfrm>
          <a:prstGeom prst="rect">
            <a:avLst/>
          </a:prstGeom>
          <a:ln w="0">
            <a:noFill/>
          </a:ln>
        </p:spPr>
      </p:pic>
      <p:sp>
        <p:nvSpPr>
          <p:cNvPr id="70" name="CaixaDeTexto 3"/>
          <p:cNvSpPr/>
          <p:nvPr/>
        </p:nvSpPr>
        <p:spPr>
          <a:xfrm>
            <a:off x="971640" y="551664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onsultoria Presen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alestra S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aixaDeTexto 6"/>
          <p:cNvSpPr/>
          <p:nvPr/>
        </p:nvSpPr>
        <p:spPr>
          <a:xfrm>
            <a:off x="612720" y="2579760"/>
            <a:ext cx="2374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ficiência Energé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esíduos Sóli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limentos Segu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Inovaçã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ertificaçã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aixaDeTexto 7"/>
          <p:cNvSpPr/>
          <p:nvPr/>
        </p:nvSpPr>
        <p:spPr>
          <a:xfrm>
            <a:off x="5003640" y="1057320"/>
            <a:ext cx="172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mpret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ncontros Empresari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stratégias Empresari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Gestão Financei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Gestão da Inovaçã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aixaDeTexto 8"/>
          <p:cNvSpPr/>
          <p:nvPr/>
        </p:nvSpPr>
        <p:spPr>
          <a:xfrm>
            <a:off x="6875640" y="2565360"/>
            <a:ext cx="201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valiam o grau de inovação das empresas atendi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aixaDeTexto 9"/>
          <p:cNvSpPr/>
          <p:nvPr/>
        </p:nvSpPr>
        <p:spPr>
          <a:xfrm>
            <a:off x="5940360" y="3357720"/>
            <a:ext cx="23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mpliar o atendimento aos negócios existentes nas áreas urbanas e rurais nos municípios do Território da Cidad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ixaDeTexto 10"/>
          <p:cNvSpPr/>
          <p:nvPr/>
        </p:nvSpPr>
        <p:spPr>
          <a:xfrm>
            <a:off x="2627280" y="6021360"/>
            <a:ext cx="38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reparar as MPE e EI para aproveitarem as oportunidades oferecidas pelo evento Copa 20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ítulo 1"/>
          <p:cNvSpPr/>
          <p:nvPr/>
        </p:nvSpPr>
        <p:spPr>
          <a:xfrm>
            <a:off x="45720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Meios/ações para alcance das metas estabeleci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K:\DADOS PLANEJAMENTO MT\MAPAS\rondonópolis.jpg"/>
          <p:cNvPicPr/>
          <p:nvPr/>
        </p:nvPicPr>
        <p:blipFill>
          <a:blip r:embed="rId1"/>
          <a:stretch/>
        </p:blipFill>
        <p:spPr>
          <a:xfrm>
            <a:off x="755640" y="260280"/>
            <a:ext cx="4578480" cy="6303960"/>
          </a:xfrm>
          <a:prstGeom prst="rect">
            <a:avLst/>
          </a:prstGeom>
          <a:ln w="0">
            <a:noFill/>
          </a:ln>
        </p:spPr>
      </p:pic>
      <p:sp>
        <p:nvSpPr>
          <p:cNvPr id="78" name="Retângulo 2"/>
          <p:cNvSpPr/>
          <p:nvPr/>
        </p:nvSpPr>
        <p:spPr>
          <a:xfrm>
            <a:off x="4286160" y="857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UNICIPIOS  SOB A RESPONSABILIDADE DA AGÊNCIA DE RONDONÓPOL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abela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4309920" cy="6456240"/>
          </a:xfrm>
          <a:prstGeom prst="rect">
            <a:avLst/>
          </a:prstGeom>
          <a:ln w="0">
            <a:noFill/>
          </a:ln>
        </p:spPr>
      </p:pic>
      <p:pic>
        <p:nvPicPr>
          <p:cNvPr id="80" name="Tabela 2" descr=""/>
          <p:cNvPicPr/>
          <p:nvPr/>
        </p:nvPicPr>
        <p:blipFill>
          <a:blip r:embed="rId2"/>
          <a:stretch/>
        </p:blipFill>
        <p:spPr>
          <a:xfrm>
            <a:off x="4638600" y="139680"/>
            <a:ext cx="4372200" cy="643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826920" y="6524640"/>
          <a:ext cx="1676520" cy="20016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20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: RAIS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68360" y="260280"/>
          <a:ext cx="7775640" cy="6093000"/>
        </p:xfrm>
        <a:graphic>
          <a:graphicData uri="http://schemas.openxmlformats.org/drawingml/2006/table">
            <a:tbl>
              <a:tblPr/>
              <a:tblGrid>
                <a:gridCol w="2284200"/>
                <a:gridCol w="1703520"/>
                <a:gridCol w="1411200"/>
                <a:gridCol w="1211400"/>
                <a:gridCol w="1165320"/>
              </a:tblGrid>
              <a:tr h="246240">
                <a:tc gridSpan="5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Empreendedores Individuais  da Região de Rondonópo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ér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617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onópo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po Ver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ia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vera do L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atin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 Taqu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xoré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cimei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ra Pr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 Garç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iqui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ratin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 Aqu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 Aragua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edro da Ci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o Antônio do L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José do Po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o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a Regi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6208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a Regi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0160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TE: SIMEI  Novembro de 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8:20:14Z</dcterms:created>
  <dc:creator>Thiana Demeneghi Batista</dc:creator>
  <dc:description/>
  <dc:language>en-US</dc:language>
  <cp:lastModifiedBy>Anamélia Lima Rocha Moreira Fernandes</cp:lastModifiedBy>
  <dcterms:modified xsi:type="dcterms:W3CDTF">2012-05-31T14:49:48Z</dcterms:modified>
  <cp:revision>34</cp:revision>
  <dc:subject/>
  <dc:title>Apresentação do PowerPoint</dc:title>
</cp:coreProperties>
</file>