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6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387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600" y="93387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9B9C-827F-4BCF-BD43-6B721CBCE351}" type="slidenum">
              <a:rPr b="0" lang="pt-B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0186-F745-4FE3-AC86-77C97F97AF6E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972F-BED6-494C-A8AD-AF1EBA3AA26B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APLs Prioritários do Estado do Espírito San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Rochas Ornamentais de Cachoeiro do Itapemirim (APL Piloto)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Móveis de Linhare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Metalmecânico de Vitóri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onfecções de Colatin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Turismo das Montanhas Capixaba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Fruticultura de São Mat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Software da Grande Vitó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Moveleira da Grande Vitória – Cariac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da Cachaça de Nova Venéc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afé Conilon da Região Nordeste – São Gabriel da Pal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Os APLs marcados com (*) apresentaram seus Planos de Desenvolvimento em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37B7-069F-4BCA-9F6A-A90086A3D386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APLs Prioritários do Estado do Espírito San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Rochas Ornamentais de Cachoeiro do Itapemirim (APL Piloto)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Móveis de Linhare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Metalmecânico de Vitóri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onfecções de Colatin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Turismo das Montanhas Capixaba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Fruticultura de São Mat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Software da Grande Vitó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Moveleira da Grande Vitória – Cariac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da Cachaça de Nova Venéc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afé Conilon da Região Nordeste – São Gabriel da Pal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Os APLs marcados com (*) apresentaram seus Planos de Desenvolvimento em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EEDC-223D-46FA-A7B2-255EA75370AA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APLs Prioritários do Estado do Espírito San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Rochas Ornamentais de Cachoeiro do Itapemirim (APL Piloto)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Móveis de Linhare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Metalmecânico de Vitóri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onfecções de Colatin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Turismo das Montanhas Capixaba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Fruticultura de São Mat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Software da Grande Vitó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Moveleira da Grande Vitória – Cariac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da Cachaça de Nova Venéc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afé Conilon da Região Nordeste – São Gabriel da Pal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Os APLs marcados com (*) apresentaram seus Planos de Desenvolvimento em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4643-179D-4CF9-AF0B-19369ABF5E39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APLs Prioritários do Estado do Espírito San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Rochas Ornamentais de Cachoeiro do Itapemirim (APL Piloto)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Móveis de Linhare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Metalmecânico de Vitóri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onfecções de Colatin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Turismo das Montanhas Capixaba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Fruticultura de São Mat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Software da Grande Vitó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Moveleira da Grande Vitória – Cariac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da Cachaça de Nova Venéc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afé Conilon da Região Nordeste – São Gabriel da Pal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Os APLs marcados com (*) apresentaram seus Planos de Desenvolvimento em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CBC0-5317-475D-9F1C-F36648B94BCC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APLs Prioritários do Estado do Espírito San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Rochas Ornamentais de Cachoeiro do Itapemirim (APL Piloto)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Móveis de Linhare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Metalmecânico de Vitóri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onfecções de Colatin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Turismo das Montanhas Capixaba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Fruticultura de São Mat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Software da Grande Vitó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Moveleira da Grande Vitória – Cariac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da Cachaça de Nova Venéc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afé Conilon da Região Nordeste – São Gabriel da Pal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Os APLs marcados com (*) apresentaram seus Planos de Desenvolvimento em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27DD-0A8A-4FA5-BF80-4DA5460BCAEB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Temas transversais do Plano Brasil Maior - paralelo com os eixos ou temas estruturantes do GTP APL: PBM - temas transversais de: comércio exterior, investimento, inovação, formação e qualificação profissional, produção sustentável, e bem-estar do consumidor. APLs - eixos estruturantes: acesso aos mercados nacional e internacional, financiamento e investimento, formação e capacitação profissional, inovação e tecnologia, capacidade produtiva, qualidade e produtividade, e governança e cooperaçã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ompetitividade de pequenos negócios e ações especiais em desenvolvimento regional: pano de fundo da própria atuação da Rede de Apoio aos AP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Operacional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rofundamento do ferramental técnico e metodológico, convergente com as demais políticas do Governo Federal e das instituições de apoio não governamenta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epactuação da atuação dos agentes públicos e privados de caráter nacional ou estadual nos AP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rimoramento dos instrumentos de política, com ênfase em modelos de atendimento coletiv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bordagem setorial articulando questões transversais com questões setoriais e customização por AP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rmação de quadros capazes de operar a polít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lanejamento, monitoramento e avaliaçã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0C13-72FF-40B7-8C75-0A756484EDBA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2FC5-C8F6-460B-9706-F4690F61FFE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32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3E4E-E3FA-4518-AB15-7F1AF4EEA455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Espaço Reservado para Anotações 2"/>
          <p:cNvSpPr/>
          <p:nvPr/>
        </p:nvSpPr>
        <p:spPr>
          <a:xfrm>
            <a:off x="819000" y="4821120"/>
            <a:ext cx="532944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Narrow"/>
              </a:rPr>
              <a:t>O conceito de APL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Narrow"/>
              </a:rPr>
              <a:t>Representa uma unidade prática de investigação que vai além da tradicional visão baseada na organização individual (empresa), setor ou cadeia produtiva, permitindo estabelecer uma ponte entre o território e as atividades econômicas, as quais também não se restringem aos cortes clássicos espaciais como os níveis municipais e de microrregiã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Narrow"/>
              </a:rPr>
              <a:t>Na medida em que parte de uma concepção neo-schumpeteriana de sistemas de inovação, a abordagem de APLs focaliza um grupo de diferentes agentes (empresas e organizações de P&amp;D, educação, treinamento, promoção, financiamento, etc.) e atividades conexas que usualmente caracterizam qualquer sistema produtivo e inovativo loc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Narrow"/>
              </a:rPr>
              <a:t>Do ponto de vista empírico o estudo sobre APLs abrange o espaço que simboliza o locus real, onde ocorre o aprendizado, são criadas as capacitações produtivas e inovativas e fluem os conhecimentos tácitos; e representa o nível no qual as políticas de promoção do aprendizado, inovação e criação de capacitações podem ser mais efetiva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Narrow"/>
              </a:rPr>
              <a:t>Por reconhecer que todo sistema local de inovação é, pela sua própria natureza, aberto e permeável, o conceito de APL permite estabelecer uma ponte entre condicionantes que operam nas esferas micro, meso e macro; sociais, econômicas e políticas e entre estas e o território, proporciona a empresas, agências de promoção e demais atores uma visão abrangente sobre a realidade com que se defrontam, auxiliando a definição de estratégias adequada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6094-25FE-4AF5-9ADB-C1A08AF32C67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73D-3DA0-4D30-BDDF-D78C90CD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98D-E303-4434-81C5-2F9C3F8E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6E2-AD92-4500-843B-7A1E8825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7B1-A6EE-4440-BE95-D8FDC3B0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D4A-BAF6-4E3E-ACB8-3CA7B589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C71-8C1F-497D-8A0E-63883A80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95B-687C-43EC-B5CD-5AD4F9DC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3F7-461B-4432-8B11-732068B5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7FA-5945-4EFB-8CB9-2C8CE4D2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154-B2BA-4DDD-A65C-F615993D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E94-CE53-4C3A-8951-AB959D05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06F-801A-4B3B-975A-85B7605B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E65C-536F-46C3-B0BD-6BDC94F4E8B5}" type="datetime">
              <a:rPr b="0" lang="pt-BR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040E-EF7C-4A6F-B982-528F70E2BB3C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AC46-26A7-4E42-95CF-86FF5CABEC90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204640"/>
            <a:ext cx="83534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t-BR" sz="3200" spc="-1" strike="noStrike">
                <a:solidFill>
                  <a:srgbClr val="008000"/>
                </a:solidFill>
                <a:latin typeface="Arial Narrow"/>
              </a:rPr>
              <a:t>O PLANO BRASIL MAIOR E A ESTRATÉGIA PARA ARRANJOS PRODUTIVOS LOCAIS NO BRASIL:</a:t>
            </a:r>
            <a:br>
              <a:rPr sz="3200"/>
            </a:br>
            <a:r>
              <a:rPr b="1" lang="pt-BR" sz="2800" spc="-1" strike="noStrike">
                <a:solidFill>
                  <a:srgbClr val="008000"/>
                </a:solidFill>
                <a:latin typeface="Arial Narrow"/>
              </a:rPr>
              <a:t>O Novo olhar Sobre o Desenvolvimento Produtivo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Título 1"/>
          <p:cNvSpPr/>
          <p:nvPr/>
        </p:nvSpPr>
        <p:spPr>
          <a:xfrm>
            <a:off x="685800" y="5516640"/>
            <a:ext cx="7772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Margarete M. Gandi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Brasília, 1º de junho de 20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6261120" y="0"/>
            <a:ext cx="287172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06E8-D39C-498A-B4C7-BA58B7226BD4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33360" y="1700280"/>
            <a:ext cx="854568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47628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 Narrow"/>
              </a:rPr>
              <a:t>Arranjos Produtivos Locai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 Narrow"/>
              </a:rPr>
              <a:t>APLs no Mato Gros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6261120" y="0"/>
            <a:ext cx="2871720" cy="148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1258920" y="1773360"/>
          <a:ext cx="6337440" cy="4910040"/>
        </p:xfrm>
        <a:graphic>
          <a:graphicData uri="http://schemas.openxmlformats.org/drawingml/2006/table">
            <a:tbl>
              <a:tblPr/>
              <a:tblGrid>
                <a:gridCol w="360360"/>
                <a:gridCol w="3425760"/>
                <a:gridCol w="987480"/>
                <a:gridCol w="1563840"/>
              </a:tblGrid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rranjo Produtivo Loc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Produ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id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Agricultu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lgod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Rondonópol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row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Agricultu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rro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Rondonópol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Agricultu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Grã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Água Mine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Á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Apicultu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M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Avicultu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or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row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Confecções, Acessórios e Tecelag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onfecçõ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Rondonópol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Flores Tropicais e Folhage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Fl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Laticín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Le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Rondonópol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Madeira e Móve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Móve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row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Ovinocaprinocultu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or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row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Pecuá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or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Barra do Garç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Piscicultu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Peix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rowSpan="3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Turism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Turism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Barra do Garç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CF55-E028-43E9-A73B-00CC3570D056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6299280" y="0"/>
            <a:ext cx="2833560" cy="1465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324000" y="1989000"/>
            <a:ext cx="8569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Arial Narrow"/>
              </a:rPr>
              <a:t>Margarete Gand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Coordenadora-Geral de Arranjos Produtivos Loca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Ministério do Desenvolvimento, Indústria e Comércio Exterior – MD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gtpapl@mdic.gov.b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888840" y="422100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Narrow"/>
              </a:rPr>
              <a:t>Obrigada pela atençã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Content Placeholder 3" descr="Template-power-point-assinatura.jpg"/>
          <p:cNvPicPr/>
          <p:nvPr/>
        </p:nvPicPr>
        <p:blipFill>
          <a:blip r:embed="rId2"/>
          <a:srcRect l="16250" t="11632" r="11373" b="11632"/>
          <a:stretch/>
        </p:blipFill>
        <p:spPr>
          <a:xfrm>
            <a:off x="108000" y="55440"/>
            <a:ext cx="24289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D9C2-53AD-4E6B-8915-8313922F97E6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0" y="47628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 Narrow"/>
              </a:rPr>
              <a:t>Plano Brasil Ma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6261120" y="0"/>
            <a:ext cx="2871720" cy="1484280"/>
          </a:xfrm>
          <a:prstGeom prst="rect">
            <a:avLst/>
          </a:prstGeom>
          <a:ln w="0">
            <a:noFill/>
          </a:ln>
        </p:spPr>
      </p:pic>
      <p:sp>
        <p:nvSpPr>
          <p:cNvPr id="57" name="Espaço Reservado para Conteúdo 2"/>
          <p:cNvSpPr/>
          <p:nvPr/>
        </p:nvSpPr>
        <p:spPr>
          <a:xfrm>
            <a:off x="826920" y="1989000"/>
            <a:ext cx="73454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Foco estratégic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  <a:ea typeface="Arial"/>
              </a:rPr>
              <a:t>“</a:t>
            </a:r>
            <a:r>
              <a:rPr b="1" lang="pt-BR" sz="2000" spc="-1" strike="noStrike">
                <a:solidFill>
                  <a:srgbClr val="000099"/>
                </a:solidFill>
                <a:latin typeface="Arial Narrow"/>
                <a:ea typeface="Arial"/>
              </a:rPr>
              <a:t>Inovação Tecnológica e Adensamento Produtivo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Prioridad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  <a:ea typeface="Arial"/>
              </a:rPr>
              <a:t>Criar e fortalecer competências críticas da economia naciona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  <a:ea typeface="Arial"/>
              </a:rPr>
              <a:t>Aumentar o adensamento produtivo e tecnológico das cadeias de valor</a:t>
            </a:r>
            <a:r>
              <a:rPr b="1" lang="pt-BR" sz="2000" spc="-1" strike="noStrike">
                <a:solidFill>
                  <a:srgbClr val="000099"/>
                </a:solidFill>
                <a:latin typeface="Arial Narrow"/>
                <a:ea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  <a:ea typeface="Arial"/>
              </a:rPr>
              <a:t>Ampliar mercados interno e externo das empresas brasileira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  <a:ea typeface="Arial"/>
              </a:rPr>
              <a:t>Garantir crescimento socialmente inclusivo e ambientalmente sustentável</a:t>
            </a:r>
            <a:r>
              <a:rPr b="1" lang="pt-BR" sz="2000" spc="-1" strike="noStrike">
                <a:solidFill>
                  <a:srgbClr val="000099"/>
                </a:solidFill>
                <a:latin typeface="Arial Narrow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5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5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75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828800" indent="-457200">
              <a:lnSpc>
                <a:spcPct val="75000"/>
              </a:lnSpc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3E4B-7557-4CD0-845C-7BC98B59181A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0" y="47628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 Narrow"/>
              </a:rPr>
              <a:t>Plano Brasil Ma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6261120" y="0"/>
            <a:ext cx="2871720" cy="1484280"/>
          </a:xfrm>
          <a:prstGeom prst="rect">
            <a:avLst/>
          </a:prstGeom>
          <a:ln w="0">
            <a:noFill/>
          </a:ln>
        </p:spPr>
      </p:pic>
      <p:sp>
        <p:nvSpPr>
          <p:cNvPr id="62" name="Espaço Reservado para Conteúdo 2"/>
          <p:cNvSpPr/>
          <p:nvPr/>
        </p:nvSpPr>
        <p:spPr>
          <a:xfrm>
            <a:off x="826920" y="1989000"/>
            <a:ext cx="73454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Dimensão Estruturan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 Narrow"/>
              </a:rPr>
              <a:t>Diretrizes para Programas Setoria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Fortalecimento de cadeias produtiv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Ampliação e criação de novas competências tecnológicas e de negó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Desenvolvimento de cadeias de suprimento em energ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Diversificação das exportações (mercados e produtos) e internacionalização corporat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Consolidação de competências na economia do conhecimento natu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5D9F-15DC-4DA8-BB17-0CEECBD48F93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0" y="47628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 Narrow"/>
              </a:rPr>
              <a:t>Plano Brasil Ma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6261120" y="0"/>
            <a:ext cx="2871720" cy="1484280"/>
          </a:xfrm>
          <a:prstGeom prst="rect">
            <a:avLst/>
          </a:prstGeom>
          <a:ln w="0">
            <a:noFill/>
          </a:ln>
        </p:spPr>
      </p:pic>
      <p:sp>
        <p:nvSpPr>
          <p:cNvPr id="67" name="Espaço Reservado para Conteúdo 2"/>
          <p:cNvSpPr/>
          <p:nvPr/>
        </p:nvSpPr>
        <p:spPr>
          <a:xfrm>
            <a:off x="826920" y="1989000"/>
            <a:ext cx="73454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Dimensão Sistêmic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Temas prioritários para medidas transversa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Comércio Exteri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Incentivo ao Investim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Incentivo à Inovaç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Formação e Qualificação Profi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Produção Sustentá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Competitividade de Pequenos Negó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Ações Especiais em Desenvolvimento Reg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Bem-estar do Consumid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AE3B-6915-4570-9EEF-C0DD1F11D418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47628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 Narrow"/>
              </a:rPr>
              <a:t>Plano Brasil Ma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6261120" y="0"/>
            <a:ext cx="2871720" cy="1484280"/>
          </a:xfrm>
          <a:prstGeom prst="rect">
            <a:avLst/>
          </a:prstGeom>
          <a:ln w="0">
            <a:noFill/>
          </a:ln>
        </p:spPr>
      </p:pic>
      <p:sp>
        <p:nvSpPr>
          <p:cNvPr id="72" name="Espaço Reservado para Conteúdo 2"/>
          <p:cNvSpPr/>
          <p:nvPr/>
        </p:nvSpPr>
        <p:spPr>
          <a:xfrm>
            <a:off x="100080" y="2133720"/>
            <a:ext cx="43275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Petróleo, Gás e Nav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Quím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Complexos da Saú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Energias Renováve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Móve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Automo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Mineraç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Construção Civ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Defesa, Aeronáutica e Espa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206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206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 algn="just">
              <a:lnSpc>
                <a:spcPct val="75000"/>
              </a:lnSpc>
              <a:spcBef>
                <a:spcPts val="624"/>
              </a:spcBef>
              <a:buClr>
                <a:srgbClr val="002060"/>
              </a:buClr>
              <a:buFont typeface="Arial Narrow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828800" indent="-457200" algn="just">
              <a:lnSpc>
                <a:spcPct val="75000"/>
              </a:lnSpc>
              <a:spcBef>
                <a:spcPts val="624"/>
              </a:spcBef>
              <a:buClr>
                <a:srgbClr val="00206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Espaço Reservado para Conteúdo 2"/>
          <p:cNvSpPr/>
          <p:nvPr/>
        </p:nvSpPr>
        <p:spPr>
          <a:xfrm>
            <a:off x="4579920" y="2116080"/>
            <a:ext cx="432900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Agroindúst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Bens de Capi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Metalurg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Serviços Logíst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TIC/Complexo Eletrôn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HPP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Serviç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Comé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Calçados, Têxtil, Confecções e Jô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Celulose e Pap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2060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2060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 algn="just">
              <a:lnSpc>
                <a:spcPct val="75000"/>
              </a:lnSpc>
              <a:spcBef>
                <a:spcPts val="624"/>
              </a:spcBef>
              <a:buClr>
                <a:srgbClr val="002060"/>
              </a:buClr>
              <a:buFont typeface="Arial Narrow"/>
              <a:buAutoNum type="arabicParenR" startAt="10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828800" indent="-457200" algn="just">
              <a:lnSpc>
                <a:spcPct val="75000"/>
              </a:lnSpc>
              <a:spcBef>
                <a:spcPts val="624"/>
              </a:spcBef>
              <a:buClr>
                <a:srgbClr val="00206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tângulo 1"/>
          <p:cNvSpPr/>
          <p:nvPr/>
        </p:nvSpPr>
        <p:spPr>
          <a:xfrm>
            <a:off x="2824560" y="1905120"/>
            <a:ext cx="25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Setores Prioritár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6A28-BEEE-4983-88D6-E4DECD14796B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-1440" y="363600"/>
            <a:ext cx="619272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 Narrow"/>
              </a:rPr>
              <a:t>Arranjos Produtivos Loca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 Narrow"/>
              </a:rPr>
              <a:t>e Plano Brasil Ma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6261120" y="0"/>
            <a:ext cx="2871720" cy="14842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250920" y="1555920"/>
            <a:ext cx="8569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15592f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A grande diversidade interna do Brasil: heterogeneidade de agentes e territórios e impactos das intervençõ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100000"/>
              </a:lnSpc>
              <a:buClr>
                <a:srgbClr val="15592f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Arranjos Produtivos Locais: rebatimentos locais dos atividades, setores e cadeias produtivas, possibilitando maior clareza das diferenças e peculiaridades do modelo de desenvolvimento e industrialização brasileiros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100000"/>
              </a:lnSpc>
              <a:buClr>
                <a:srgbClr val="15592f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Estratégia de Arranjos Produtivos Locais: forma eficaz de desenvolver a política industrial nos estados e municípios, em uma abordagem complementar à política horizontal e à abordagem setorial nacional que é desenvolvida no PBM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" name="Rectangle 7"/>
          <p:cNvGrpSpPr/>
          <p:nvPr/>
        </p:nvGrpSpPr>
        <p:grpSpPr>
          <a:xfrm>
            <a:off x="-96840" y="5132520"/>
            <a:ext cx="9333000" cy="1901520"/>
            <a:chOff x="-96840" y="5132520"/>
            <a:chExt cx="9333000" cy="1901520"/>
          </a:xfrm>
        </p:grpSpPr>
        <p:pic>
          <p:nvPicPr>
            <p:cNvPr id="81" name="Rectangle 7" descr=""/>
            <p:cNvPicPr/>
            <p:nvPr/>
          </p:nvPicPr>
          <p:blipFill>
            <a:blip r:embed="rId2"/>
            <a:stretch/>
          </p:blipFill>
          <p:spPr>
            <a:xfrm>
              <a:off x="-96840" y="5132520"/>
              <a:ext cx="9333000" cy="19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0" y="5229360"/>
              <a:ext cx="9132840" cy="16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99"/>
                  </a:solidFill>
                  <a:latin typeface="Arial Narrow"/>
                </a:rPr>
                <a:t>Lógica de Atuação:</a:t>
              </a:r>
              <a:r>
                <a:rPr b="1" lang="pt-BR" sz="2000" spc="-1" strike="noStrike">
                  <a:solidFill>
                    <a:srgbClr val="008000"/>
                  </a:solidFill>
                  <a:latin typeface="Arial Narro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8000"/>
                  </a:solidFill>
                  <a:latin typeface="Arial Narrow"/>
                </a:rPr>
                <a:t>Subsidiar, a partir das demandas locais, a construção de políticas horizontais.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8000"/>
                  </a:solidFill>
                  <a:latin typeface="Arial Narrow"/>
                </a:rPr>
                <a:t>Territorializar as políticas horizontais.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99"/>
                  </a:solidFill>
                  <a:latin typeface="Arial Narrow"/>
                </a:rPr>
                <a:t>Exercício matricial: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8000"/>
                  </a:solidFill>
                  <a:latin typeface="Arial Narrow"/>
                </a:rPr>
                <a:t>Combinação de políticas </a:t>
              </a:r>
              <a:r>
                <a:rPr b="1" i="1" lang="pt-BR" sz="2000" spc="-1" strike="noStrike">
                  <a:solidFill>
                    <a:srgbClr val="008000"/>
                  </a:solidFill>
                  <a:latin typeface="Arial Narrow"/>
                </a:rPr>
                <a:t>top-down</a:t>
              </a:r>
              <a:r>
                <a:rPr b="1" lang="pt-BR" sz="2000" spc="-1" strike="noStrike">
                  <a:solidFill>
                    <a:srgbClr val="008000"/>
                  </a:solidFill>
                  <a:latin typeface="Arial Narrow"/>
                </a:rPr>
                <a:t>, políticas </a:t>
              </a:r>
              <a:r>
                <a:rPr b="1" i="1" lang="pt-BR" sz="2000" spc="-1" strike="noStrike">
                  <a:solidFill>
                    <a:srgbClr val="008000"/>
                  </a:solidFill>
                  <a:latin typeface="Arial Narrow"/>
                </a:rPr>
                <a:t>bottom-up</a:t>
              </a:r>
              <a:r>
                <a:rPr b="1" lang="pt-BR" sz="2000" spc="-1" strike="noStrike">
                  <a:solidFill>
                    <a:srgbClr val="008000"/>
                  </a:solidFill>
                  <a:latin typeface="Arial Narrow"/>
                </a:rPr>
                <a:t> e políticas transversais.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109440"/>
            <a:ext cx="9756720" cy="6415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4"/>
          <p:cNvSpPr/>
          <p:nvPr/>
        </p:nvSpPr>
        <p:spPr>
          <a:xfrm>
            <a:off x="925560" y="142200"/>
            <a:ext cx="776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 Narrow"/>
                <a:ea typeface="Calibri"/>
              </a:rPr>
              <a:t>DESDOBRAMENTO DO PLANO BRASIL MAIOR – PBM NA POLÍTICA DE APL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99"/>
                </a:solidFill>
                <a:latin typeface="Arial Narrow"/>
              </a:rPr>
              <a:t>Lastres e Cassiolato, 2003; Lastres, 2007 </a:t>
            </a:r>
            <a:fld id="{F3DD8C89-4B66-49EA-81CE-676E19287DB5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76200" y="1916280"/>
            <a:ext cx="8391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“</a:t>
            </a: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... onde houver produção de qualquer bem ou serviço haverá sempre um sistema produtivo em seu entorno, envolvendo atividades e atores relacionados à aquisição de matérias-primas, máquinas e demais insumos, por mais rudimentar e desestruturado que este seja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“</a:t>
            </a: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Os Arranjos Produtivos Locais representam uma nova forma de olhar o espaço produtivo, indo além da tradicional visão baseada na organização individual, setor ou cadeia produtiva e estabelecendo uma ponte entre o território e as atividades econômicas ao não se restringir aos cortes espaciais clássicos, e levar em conta as especificidades dos rebatimentos locais das atividades produtivas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“</a:t>
            </a: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... qualquer estrutura produtiva é passível de ser apoiada a partir do referencial de política para APLs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24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24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0" y="47628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 Narrow"/>
              </a:rPr>
              <a:t>Arranjos Produtivos Locai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Novas Formas de Olhar o Espaço Produ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6261120" y="0"/>
            <a:ext cx="2871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BFC3-8E14-4471-A4CE-D23EE9920CAC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33360" y="1989000"/>
            <a:ext cx="85456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Instituição, no âmbito do Governo Federal, do Grupo de Trabalho Permanente para Arranjos Produtivos Locais (GTP APL): 33 instituições de abrangência naciona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Metodologia baseada na construção de um Plano de Desenvolvimento Preliminar/Produtivo 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Eixos estruturantes (5): Tecnologia e Inovação; Formação e Capacitação; Governança e Cooperação; Capacidade Produtiva; Acesso a Mercado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Instalação dos Núcleos Estaduais de Apoio aos APLs: 27 N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Núcleo Estadual de Mato Grosso coordenado pela Secretaria de Estado de Indústria, Comércio, Minas e Energia – SICME/MT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Esforço de mobilização e de inserção do tema na agenda de políticas – 5 Conferências Brasileira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0" y="47628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 Narrow"/>
              </a:rPr>
              <a:t>Arranjos Produtivos Locai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 Narrow"/>
              </a:rPr>
              <a:t>Estruturação da Política de APLs no Bras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6261120" y="0"/>
            <a:ext cx="2871720" cy="1484280"/>
          </a:xfrm>
          <a:prstGeom prst="rect">
            <a:avLst/>
          </a:prstGeom>
          <a:ln w="0">
            <a:noFill/>
          </a:ln>
        </p:spPr>
      </p:pic>
      <p:grpSp>
        <p:nvGrpSpPr>
          <p:cNvPr id="95" name="Rectangle 7"/>
          <p:cNvGrpSpPr/>
          <p:nvPr/>
        </p:nvGrpSpPr>
        <p:grpSpPr>
          <a:xfrm>
            <a:off x="237960" y="5473800"/>
            <a:ext cx="8869680" cy="1403280"/>
            <a:chOff x="237960" y="5473800"/>
            <a:chExt cx="8869680" cy="1403280"/>
          </a:xfrm>
        </p:grpSpPr>
        <p:pic>
          <p:nvPicPr>
            <p:cNvPr id="96" name="Rectangle 7" descr=""/>
            <p:cNvPicPr/>
            <p:nvPr/>
          </p:nvPicPr>
          <p:blipFill>
            <a:blip r:embed="rId2"/>
            <a:stretch/>
          </p:blipFill>
          <p:spPr>
            <a:xfrm>
              <a:off x="237960" y="5473800"/>
              <a:ext cx="88696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33360" y="5589720"/>
              <a:ext cx="866952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0099"/>
                  </a:solidFill>
                  <a:latin typeface="Arial Narrow"/>
                </a:rPr>
                <a:t>Objetivo: </a:t>
              </a:r>
              <a:r>
                <a:rPr b="1" lang="pt-BR" sz="2200" spc="-1" strike="noStrike">
                  <a:solidFill>
                    <a:srgbClr val="008000"/>
                  </a:solidFill>
                  <a:latin typeface="Arial Narrow"/>
                </a:rPr>
                <a:t>Estímulo aos </a:t>
              </a:r>
              <a:r>
                <a:rPr b="1" lang="pt-BR" sz="2200" spc="-1" strike="noStrike">
                  <a:solidFill>
                    <a:srgbClr val="000099"/>
                  </a:solidFill>
                  <a:latin typeface="Arial Narrow"/>
                </a:rPr>
                <a:t>processos locais de desenvolvimento</a:t>
              </a:r>
              <a:r>
                <a:rPr b="1" lang="pt-BR" sz="2200" spc="-1" strike="noStrike">
                  <a:solidFill>
                    <a:srgbClr val="008000"/>
                  </a:solidFill>
                  <a:latin typeface="Arial Narrow"/>
                </a:rPr>
                <a:t>, 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8000"/>
                  </a:solidFill>
                  <a:latin typeface="Arial Narrow"/>
                </a:rPr>
                <a:t>através da promoção da competitividade e da sustentabilidade 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8000"/>
                  </a:solidFill>
                  <a:latin typeface="Arial Narrow"/>
                </a:rPr>
                <a:t>dos empreendimentos no território do APL. </a:t>
              </a:r>
              <a:r>
                <a:rPr b="1" lang="pt-BR" sz="2000" spc="-1" strike="noStrike">
                  <a:solidFill>
                    <a:srgbClr val="008000"/>
                  </a:solidFill>
                  <a:latin typeface="Arial Narrow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9:15:12Z</dcterms:created>
  <dc:creator>mict</dc:creator>
  <dc:description/>
  <dc:language>en-US</dc:language>
  <cp:lastModifiedBy>H</cp:lastModifiedBy>
  <cp:lastPrinted>2012-03-07T11:34:42Z</cp:lastPrinted>
  <dcterms:modified xsi:type="dcterms:W3CDTF">2012-06-05T20:48:08Z</dcterms:modified>
  <cp:revision>365</cp:revision>
  <dc:subject/>
  <dc:title>Slide 1</dc:title>
</cp:coreProperties>
</file>