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DAE7C4F-F276-40E1-99B9-E2454B46B25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46C12A-C677-4EE9-80C6-B927C28E3C8F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43128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cm98\Brazil\Sovereign\Banco Central\rdshgs.p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4CB9E77-74BF-42F4-A7AD-74AE9D6E74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93FDD44-87AE-4211-84ED-C2B387A44C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B1CE8C7-714A-4DD2-A706-AD0CFE3396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NewRomanPSMT"/>
              </a:rPr>
              <a:t>Taxa de desconto média ponderada pelo valor (Cielo e Redec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idera cartões de crédito e de débito: cálculo pela lucrativid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31FE59E-DD36-4E0B-A33C-1FCE1F6BB1FA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22BB243-E361-4B4E-A048-A41416124069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1E3456F-4768-4DA0-AF65-3779C29BF5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D31652F-68E2-41A4-B42E-FCD250904102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rifa de anuidade Hipercard = 0 (ze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C45D6C7-6DF1-4AF4-A1AD-27C207C79BB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B66D268-5DB1-4670-8E7A-030AFBB21E85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50E1AF9-45B2-440E-A0E6-B22D94D618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CFDECEB-BE68-447C-9145-13E603547850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7E4EC7-47AE-481C-B1E1-AE7D988363C6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8AC5806-ADAB-4B2D-9865-F4FDDD2F5B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556E3AA-D294-4279-9329-81220C345B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C91739D-012F-4C81-A37B-59B025922B0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B4EA147-F0D4-4B36-A92C-CD7AB0FC65B5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83596BBE-C1AA-4D80-850C-6509FCD2F49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BC48229-61BF-4D5E-86AA-49AA684E15DA}" type="slidenum">
              <a:rPr b="0" lang="pt-BR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C3C41D4-688B-474B-9205-2B156AE823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F05E89F-5BF7-4543-9EFF-F112EC76213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NewRomanPS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534F8395-246A-4D6B-BC5E-CAE688D92D0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E85B09-80A0-423F-8639-E8EFB4B8276D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5DAA1E3-9B74-4070-A6AB-7ED44EB394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C71D27A-DC8C-42C2-90BA-3475B7E3A5D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3D33B21-8398-4D62-929F-832C3D1674EB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29F05D4-2027-4460-8F08-A019FC008A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7566CAFE-8451-4CA1-9892-12855F3D8E31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BC6ED6-982F-46C5-9D9D-A2838F6FA65E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BD61128-F3BD-49DC-9D9A-8D0910C816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96B77B2-FC2F-40D1-9BD6-873AE3416FBB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7EC1AC4-B190-4706-A469-E021417B1D3E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E0DB621-C80B-457D-BFC7-084DC269FA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0640" y="4712760"/>
            <a:ext cx="48816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étricas do mercado para o índice HH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é 0,1000 desconcent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0,1000 até 0,1800 moderad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cima de 0,1800 altamente concent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Espaço Reservado para Data 3"/>
          <p:cNvSpPr/>
          <p:nvPr/>
        </p:nvSpPr>
        <p:spPr>
          <a:xfrm>
            <a:off x="3774960" y="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4FD582B-88EB-493C-A1F1-991BBB5C1869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B00ECA-0EDC-4FEA-BE22-20D37727A7F2}" type="datetime10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3:55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774960" y="9431280"/>
            <a:ext cx="2887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1F8E2B7-EAF3-4834-B370-E67BCED93E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85E5-96AA-43E5-BF8C-FB285F57F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3744-0C51-4524-8424-1C26ECFED8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3079-ADB3-4138-B5D7-F608084BEF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1FB6-5532-4A38-91DE-5FD73F2D8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2A7D-4670-45A6-930D-1A1B8AF301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ADFF-8852-4243-800E-77BA10746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AB92-D5B8-45A9-87A6-EAEE3E49C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3C0D-311B-4173-B369-87D024A12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3B6E-D01E-4196-BF53-9544305680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5F0D-931D-43E8-8B34-1BA1683F4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4F27-413C-42F3-86C0-D22CFA6C6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1CF2-341E-4B40-B618-8AA2D628A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09E18E-1B57-4068-9574-3176AFDFC6A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base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8474040" y="6388200"/>
            <a:ext cx="6336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FE150F-B3A8-4EAB-BCA2-6B5DFD42A76D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432280" y="107640"/>
            <a:ext cx="5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FDA-5A31-4D1F-B24E-373044CF625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71280" y="1897200"/>
            <a:ext cx="8999640" cy="316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issão de Desenvolvimento Econômico, Indústria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mércio da Câmara dos Depu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udiência Pública - Atuação do Segmento de Cartão de Crédito n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1280" y="5037120"/>
            <a:ext cx="907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gresso - Brasília            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                                julho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 – aluguel mé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360" y="1249200"/>
            <a:ext cx="902988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ângulo 5"/>
          <p:cNvSpPr/>
          <p:nvPr/>
        </p:nvSpPr>
        <p:spPr>
          <a:xfrm>
            <a:off x="4430880" y="1177920"/>
            <a:ext cx="3587760" cy="4613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ângulo 4"/>
          <p:cNvSpPr/>
          <p:nvPr/>
        </p:nvSpPr>
        <p:spPr>
          <a:xfrm>
            <a:off x="809640" y="1177920"/>
            <a:ext cx="3621240" cy="4633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– credenciador  / estabel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66760" y="1036800"/>
            <a:ext cx="857232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s do mercad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stinação da taxa de desc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AB57-94B2-48A9-A3DF-2E29F6E11534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550200" cy="3765600"/>
          </a:xfrm>
          <a:prstGeom prst="rect">
            <a:avLst/>
          </a:prstGeom>
          <a:ln w="0">
            <a:noFill/>
          </a:ln>
        </p:spPr>
      </p:pic>
      <p:sp>
        <p:nvSpPr>
          <p:cNvPr id="126" name="Chave esquerda 11"/>
          <p:cNvSpPr/>
          <p:nvPr/>
        </p:nvSpPr>
        <p:spPr>
          <a:xfrm>
            <a:off x="1042920" y="1700280"/>
            <a:ext cx="216000" cy="29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952720"/>
              <a:gd name="textAreaBottom" fmla="*/ 29473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aixaDeTexto 12" descr=""/>
          <p:cNvPicPr/>
          <p:nvPr/>
        </p:nvPicPr>
        <p:blipFill>
          <a:blip r:embed="rId2"/>
          <a:stretch/>
        </p:blipFill>
        <p:spPr>
          <a:xfrm>
            <a:off x="609480" y="1773360"/>
            <a:ext cx="408240" cy="2805120"/>
          </a:xfrm>
          <a:prstGeom prst="rect">
            <a:avLst/>
          </a:prstGeom>
          <a:ln w="0">
            <a:noFill/>
          </a:ln>
        </p:spPr>
      </p:pic>
      <p:pic>
        <p:nvPicPr>
          <p:cNvPr id="128" name="CaixaDeTexto 13" descr=""/>
          <p:cNvPicPr/>
          <p:nvPr/>
        </p:nvPicPr>
        <p:blipFill>
          <a:blip r:embed="rId3"/>
          <a:stretch/>
        </p:blipFill>
        <p:spPr>
          <a:xfrm>
            <a:off x="7881840" y="2779560"/>
            <a:ext cx="555840" cy="1944720"/>
          </a:xfrm>
          <a:prstGeom prst="rect">
            <a:avLst/>
          </a:prstGeom>
          <a:ln w="0">
            <a:noFill/>
          </a:ln>
        </p:spPr>
      </p:pic>
      <p:sp>
        <p:nvSpPr>
          <p:cNvPr id="129" name="Chave direita 14"/>
          <p:cNvSpPr/>
          <p:nvPr/>
        </p:nvSpPr>
        <p:spPr>
          <a:xfrm>
            <a:off x="7524720" y="285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728720"/>
              <a:gd name="textAreaBottom" fmla="*/ 17233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1280" y="819000"/>
            <a:ext cx="9001440" cy="5408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108000" bIns="0" anchor="ctr">
            <a:normAutofit/>
          </a:bodyPr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Resolução nº 3.919, de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adronização dos serviç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mplificação de tarifas ao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Majoração de preços após 365 dias do último valor divul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Divulgação e clareza de inform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Planos de recompensa ou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382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d2d8a"/>
                </a:solidFill>
                <a:latin typeface="Arial"/>
                <a:ea typeface="Times New Roman"/>
              </a:rPr>
              <a:t>Detalhamento de encargos e custo efetivo to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Encaminhamento de cartão de crédito somente a expressa solicitação do 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Possibilidade de cancelamento tempes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Circular nº 3.512, 25.11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Limitação do valor do rotativo em relação ao total d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Maior transparência para o consumidor em relação 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81040" indent="-181080" algn="just">
              <a:lnSpc>
                <a:spcPct val="9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s, encargos financeiros , obrigações e dire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81080" indent="-181080" algn="just">
              <a:lnSpc>
                <a:spcPct val="140000"/>
              </a:lnSpc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ndividamento mais restrito por meio do cartão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Número de Slide 7"/>
          <p:cNvSpPr/>
          <p:nvPr/>
        </p:nvSpPr>
        <p:spPr>
          <a:xfrm>
            <a:off x="8640720" y="10800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B90-7556-469B-AEBF-009F371D250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missor e Portador -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médio da Tarifa de Anu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01520" y="1757520"/>
            <a:ext cx="88552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lor financiado no crédito rotativo sobre volume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9200" y="1819440"/>
            <a:ext cx="901404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gulação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enário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1280" y="1006200"/>
            <a:ext cx="9001440" cy="52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Comunidade Europeia e Austrá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Intervenção das autoridades locais na tarifa de intercâmbio (cartão de crédito e débito): tarifa definida pelo mercado acima da tarifa ótima (bem-estar social) e, por ser resultado de acordo coletivo entr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(desconto ou sobrepreço), quando justificado, cada país pode decidir por não permitir o sobre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Aft>
                <a:spcPts val="689"/>
              </a:spcAft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d2d8a"/>
                </a:solidFill>
                <a:latin typeface="Arial"/>
                <a:ea typeface="Times New Roman"/>
              </a:rPr>
              <a:t>E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regulação: cartão de déb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tarifa de intercâmbio limitada a um valor máximo obtido pela soma de US$ 0,21 por transação mais 0,05% do valor da transação (outubro 20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185400">
              <a:spcAft>
                <a:spcPts val="561"/>
              </a:spcAft>
              <a:buClr>
                <a:srgbClr val="2d2d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proíbe arranjos de exclusividade de rede de processamento das transações (abril de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185760">
              <a:spcAft>
                <a:spcPts val="624"/>
              </a:spcAft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livre diferenciação de preço em função do instrumento de pag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914400"/>
            <a:ext cx="9072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Objetivo do Banco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segurança e eficiência do Sistema de Pagamentos Brasil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do bem estar social na prestação de serviços de paga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1199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Estudo marco legal sobre arranjo de pag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0720" indent="-269640">
              <a:spcAft>
                <a:spcPts val="601"/>
              </a:spcAft>
              <a:buClr>
                <a:srgbClr val="2d2d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2d2d8a"/>
                </a:solidFill>
                <a:latin typeface="Arial"/>
                <a:ea typeface="Times New Roman"/>
              </a:rPr>
              <a:t>Competência CMN e Banco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1080" indent="-181080">
              <a:spcBef>
                <a:spcPts val="601"/>
              </a:spcBef>
              <a:buClr>
                <a:srgbClr val="2d2d8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Papeis complementares da Regulação e Auto-regul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ações f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apa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71280" y="2857680"/>
            <a:ext cx="8998200" cy="16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rdilson Fernandes Queir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rdilson.queiroz@bcb.gov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+55 (61) 3414-23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14400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262080" indent="-262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Fim das exclusividades entre credenciadores e proprietários de esqu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Novos credenci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89000">
              <a:lnSpc>
                <a:spcPct val="90000"/>
              </a:lnSpc>
              <a:spcAft>
                <a:spcPts val="601"/>
              </a:spcAft>
              <a:buClr>
                <a:srgbClr val="000066"/>
              </a:buClr>
              <a:buSzPct val="120000"/>
              <a:buFont typeface="Wingdings" charset="2"/>
              <a:buChar char="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2d2d8a"/>
                </a:solidFill>
                <a:latin typeface="Arial"/>
                <a:ea typeface="Times New Roman"/>
              </a:rPr>
              <a:t>Sistema de controle de garant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gente neutro para a compensação e para a liquidação das trans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Desenvolvimento de esquema local de cartões de déb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Interoperabilidade parcial de serviços de 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mento na transparência das tari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62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120000"/>
              <a:buFont typeface="Arial"/>
              <a:buChar char="•"/>
              <a:tabLst>
                <a:tab algn="l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2d2d8a"/>
                </a:solidFill>
                <a:latin typeface="Arial"/>
                <a:ea typeface="Times New Roman"/>
              </a:rPr>
              <a:t>Auto-regulação d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 – relatório da indústria de cartão de pag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mpacto na indú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ângulo 8"/>
          <p:cNvSpPr/>
          <p:nvPr/>
        </p:nvSpPr>
        <p:spPr>
          <a:xfrm>
            <a:off x="4592520" y="1087560"/>
            <a:ext cx="3942000" cy="452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ângulo 7"/>
          <p:cNvSpPr/>
          <p:nvPr/>
        </p:nvSpPr>
        <p:spPr>
          <a:xfrm>
            <a:off x="731880" y="1109520"/>
            <a:ext cx="3890880" cy="450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cartões emitidos e ativos (milh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69960" y="1139760"/>
            <a:ext cx="7843680" cy="44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igil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volução da indústria – quantidade de trans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0480" y="1036800"/>
            <a:ext cx="9043920" cy="52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modalidade do cartã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77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forma de captura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ercentual das transações por parcelamento –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619280"/>
            <a:ext cx="9231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e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78CA-B08A-4BD4-904F-75956A87BA8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7"/>
          <p:cNvSpPr/>
          <p:nvPr/>
        </p:nvSpPr>
        <p:spPr>
          <a:xfrm>
            <a:off x="0" y="3424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14560" y="1096920"/>
            <a:ext cx="68958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123920" y="3535200"/>
            <a:ext cx="6896160" cy="275148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0"/>
          <p:cNvSpPr/>
          <p:nvPr/>
        </p:nvSpPr>
        <p:spPr>
          <a:xfrm>
            <a:off x="1554120" y="2286000"/>
            <a:ext cx="61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12"/>
          <p:cNvSpPr/>
          <p:nvPr/>
        </p:nvSpPr>
        <p:spPr>
          <a:xfrm>
            <a:off x="1565280" y="4826160"/>
            <a:ext cx="61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19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108000"/>
            <a:ext cx="900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ntração no mercado de crede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432640" y="108000"/>
            <a:ext cx="56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7E4-81D2-4B8C-AC33-360C235EAA10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127160" y="1087560"/>
            <a:ext cx="6869160" cy="269712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5"/>
          <p:cNvSpPr/>
          <p:nvPr/>
        </p:nvSpPr>
        <p:spPr>
          <a:xfrm>
            <a:off x="0" y="1006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073160" y="3525840"/>
            <a:ext cx="6896160" cy="275112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7"/>
          <p:cNvSpPr/>
          <p:nvPr/>
        </p:nvSpPr>
        <p:spPr>
          <a:xfrm>
            <a:off x="0" y="34336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ÉB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11"/>
          <p:cNvSpPr/>
          <p:nvPr/>
        </p:nvSpPr>
        <p:spPr>
          <a:xfrm>
            <a:off x="1533600" y="1930320"/>
            <a:ext cx="61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2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2"/>
          <p:cNvSpPr/>
          <p:nvPr/>
        </p:nvSpPr>
        <p:spPr>
          <a:xfrm>
            <a:off x="1533600" y="459252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IHH (2011) = 0,48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21:44:38Z</dcterms:created>
  <dc:creator>BACEN</dc:creator>
  <dc:description/>
  <dc:language>en-US</dc:language>
  <cp:lastModifiedBy>H</cp:lastModifiedBy>
  <cp:lastPrinted>2002-06-19T00:46:02Z</cp:lastPrinted>
  <dcterms:modified xsi:type="dcterms:W3CDTF">2012-07-05T14:41:24Z</dcterms:modified>
  <cp:revision>3090</cp:revision>
  <dc:subject/>
  <dc:title>Slide sem título</dc:title>
</cp:coreProperties>
</file>