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372-83C5-4F87-BDFA-003A6F34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C80-24A0-4A82-ACDC-59B3F371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31F-FD12-4781-AE47-DA8E902E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441-C781-4B4C-B676-E54A1A94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5C0-0EDE-42E8-9FD2-0250B6FE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75F-23A3-4F1F-945A-56EA7030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762-150E-48AA-A958-877A6A89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827-F381-458F-AD2A-6C72B5FB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52C-1E11-4C4C-86DC-7A930FF3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03F-E6C0-41CA-848A-C3EB5037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C03-633E-4D56-8DCB-B74FEAD0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E7A-1A49-46E0-98AB-06786E8B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66A10-93F3-4B43-90AE-DEC8D797FC56}" type="datetime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4FE43-2794-40E3-A14B-DDE0AF7E0CCA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932040"/>
            <a:ext cx="91440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NIFICAÇÃO E CONFEITARIA 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rformance do setor em 201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José Joffre Nascimento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58D8C-FD8F-48FB-9DBA-3BBD1CB88DF7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Motivos do crescimento do setor de Panific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314280" y="1241280"/>
            <a:ext cx="86281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mento do emprego com redução do tempo de permanência das pessoas em casas, contribuindo com o aumento das refeições fora do lar – 30% no Brasil, enquanto nos EUA é de 42%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soas com mais dinheiro comem mais fora de casa e compram produtos com maior valor agregado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rnização das empresas, inovando em equipamentos, processos e gestão administrativa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E04F8-E72F-43B1-AEAC-1BBA8D6079EB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Motivos do crescimento do setor de Panific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CaixaDeTexto 5"/>
          <p:cNvSpPr/>
          <p:nvPr/>
        </p:nvSpPr>
        <p:spPr>
          <a:xfrm>
            <a:off x="314280" y="1241280"/>
            <a:ext cx="8628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 de 3,6 milhões de pessoas à classe  média; destes, 1,4 milhão vieram da classe E e 356 mil da classe D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populacional de 1,6 milhão de pessoas entre 2010 e 2011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do PIB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r cap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L 806/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mportante ação realizada em conjunto com panificadores de Serg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23% das panificadoras brasileiras utilizam lenha como fonte energe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azo para adequ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NR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TE. Atualiza redação da norma sobre equipament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vigor  Dezembro/2010 estabelece prazos para troca de equipamentos de 12 a 66 me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anificação:Cilindro,Amassadeiras,batedeiras,modeladoras e demais máqui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NR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ais de 30 seminários realizados pela entidade nacional de panificação sensibilizando o panificador quanto a necessidade da troca de equip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ndicatos consiguiram abertura de credito junto as linhas de credito governamentais(BND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sponsabilidade Socio-Ambei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acola Perman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Óleo Comestível us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P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desão a projetos da comun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Forno V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rabalho sendo realizado juntamente com o Inmetro,Abip,Abiepan(Fabricantes) e Sebra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ornos ,fogões receberão selo relativo a sua eficiencia energé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A4F3E-D7D5-436F-91C2-E487D88EC200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CaixaDeTexto 6"/>
          <p:cNvSpPr/>
          <p:nvPr/>
        </p:nvSpPr>
        <p:spPr>
          <a:xfrm>
            <a:off x="417600" y="779400"/>
            <a:ext cx="826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Grande"/>
              </a:rPr>
              <a:t>ABI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Grande"/>
              </a:rPr>
              <a:t>Associação Brasileira da Indústria da Panificação e Confeitari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SHN Quadra 02 – Bloco H, nº 30, Sobreloja – Sala 55 – Mix Metropolitan Fla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Brasília/DF – Cep: 70.702-905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Tel: (61) 3327-3332 / (31) 3274-6376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www.abip.org.br / www.propan.com.br / propan@propan.com.b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6F9AF-0431-4065-915F-21BEA60545E9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lassificação das empresas por nº de funcionário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Gráfico 7" descr=""/>
          <p:cNvPicPr/>
          <p:nvPr/>
        </p:nvPicPr>
        <p:blipFill>
          <a:blip r:embed="rId1"/>
          <a:stretch/>
        </p:blipFill>
        <p:spPr>
          <a:xfrm>
            <a:off x="542880" y="731880"/>
            <a:ext cx="7839000" cy="504648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"/>
          <p:cNvSpPr/>
          <p:nvPr/>
        </p:nvSpPr>
        <p:spPr>
          <a:xfrm>
            <a:off x="5756400" y="6432480"/>
            <a:ext cx="2368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onte: ABIP/Propan - 20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DDEBF-625E-4B54-AC8D-8E238A80945A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formance do Setor de Panificação e Confeitari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Gráfico 5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ABF3C-CE3A-433D-9699-5426BDF8E2CF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Retângulo 3"/>
          <p:cNvSpPr/>
          <p:nvPr/>
        </p:nvSpPr>
        <p:spPr>
          <a:xfrm>
            <a:off x="0" y="0"/>
            <a:ext cx="91440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Setor de Panificação - Indicadores 2011  - Descontados a Infl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Gráfico 4" descr=""/>
          <p:cNvPicPr/>
          <p:nvPr/>
        </p:nvPicPr>
        <p:blipFill>
          <a:blip r:embed="rId1"/>
          <a:stretch/>
        </p:blipFill>
        <p:spPr>
          <a:xfrm>
            <a:off x="0" y="0"/>
            <a:ext cx="83692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CBF9A-4049-4AF1-904F-A6550AE228DA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olução do Faturamento - em Bilhões de Reais e %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" name="Gráfico 6" descr=""/>
          <p:cNvPicPr/>
          <p:nvPr/>
        </p:nvPicPr>
        <p:blipFill>
          <a:blip r:embed="rId1"/>
          <a:stretch/>
        </p:blipFill>
        <p:spPr>
          <a:xfrm>
            <a:off x="-6480" y="731880"/>
            <a:ext cx="915696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87116-1EB7-4CC0-8144-8C16A2ADD62C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formance do Setor de Panificação e Confeitari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Retângulo 7"/>
          <p:cNvSpPr/>
          <p:nvPr/>
        </p:nvSpPr>
        <p:spPr>
          <a:xfrm>
            <a:off x="4572000" y="5202360"/>
            <a:ext cx="4572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Valor estimad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*Fonte:ITPC/Propan – 2012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**Comparado com o ano anterior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03200" y="752400"/>
          <a:ext cx="8269200" cy="4373640"/>
        </p:xfrm>
        <a:graphic>
          <a:graphicData uri="http://schemas.openxmlformats.org/drawingml/2006/table">
            <a:tbl>
              <a:tblPr/>
              <a:tblGrid>
                <a:gridCol w="992160"/>
                <a:gridCol w="2306520"/>
                <a:gridCol w="1824120"/>
                <a:gridCol w="1654200"/>
                <a:gridCol w="1492200"/>
              </a:tblGrid>
              <a:tr h="48276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do Setor de Panificação no PIB Brasilei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turamento*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scimento do setor 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12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8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61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98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23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52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2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30 b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 tr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84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99 b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 trilhões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48192-8314-46C5-A134-B477ADBD177A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olução de outros três Indicadores do Setor de Panificação (em %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2006 - 2011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Gráfico 4" descr=""/>
          <p:cNvPicPr/>
          <p:nvPr/>
        </p:nvPicPr>
        <p:blipFill>
          <a:blip r:embed="rId1"/>
          <a:stretch/>
        </p:blipFill>
        <p:spPr>
          <a:xfrm>
            <a:off x="609480" y="652320"/>
            <a:ext cx="76392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E7D2B-8F11-40A3-BB25-38C35671A24A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Retângulo 3"/>
          <p:cNvSpPr/>
          <p:nvPr/>
        </p:nvSpPr>
        <p:spPr>
          <a:xfrm>
            <a:off x="0" y="119160"/>
            <a:ext cx="9144000" cy="8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Desempenho do Setor em 20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CaixaDeTexto 5"/>
          <p:cNvSpPr/>
          <p:nvPr/>
        </p:nvSpPr>
        <p:spPr>
          <a:xfrm>
            <a:off x="266760" y="1522440"/>
            <a:ext cx="868680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fluxo de pessoas atingiu a marca de 43,23 milhões de pessoas, quase 1 milhão a mais do que o ano de 2010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As vendas de produtos de produção própria – R$ 32,12 bilhões –  representaram 51% do faturamento total de R$ 62,99 bilhões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jeção do faturamento abrange cerca de 20% de empresas informais do setor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6E9EA-EB6D-4292-8260-DEE29FA2DD1D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Retângulo 3"/>
          <p:cNvSpPr/>
          <p:nvPr/>
        </p:nvSpPr>
        <p:spPr>
          <a:xfrm>
            <a:off x="0" y="190440"/>
            <a:ext cx="914400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Desempenho do Setor em 20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CaixaDeTexto 5"/>
          <p:cNvSpPr/>
          <p:nvPr/>
        </p:nvSpPr>
        <p:spPr>
          <a:xfrm>
            <a:off x="343080" y="649440"/>
            <a:ext cx="82105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O setor de panificação  vem contribuindo consideravelmente, nos últimos anos, para o crescimento  do </a:t>
            </a:r>
            <a:r>
              <a:rPr b="0" i="1" lang="pt-BR" sz="2000" spc="-1" strike="noStrike">
                <a:solidFill>
                  <a:srgbClr val="c00000"/>
                </a:solidFill>
                <a:latin typeface="Lucida Grande"/>
              </a:rPr>
              <a:t>food service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no Brasil. Em 2011 a participação aproximada foi   de 36,05% do  faturamento de R$ 89,1 bilhões do </a:t>
            </a:r>
            <a:r>
              <a:rPr b="0" i="1" lang="pt-BR" sz="2000" spc="-1" strike="noStrike">
                <a:solidFill>
                  <a:srgbClr val="000000"/>
                </a:solidFill>
                <a:latin typeface="Lucida Grande"/>
              </a:rPr>
              <a:t>food servi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Lucida Grande"/>
              </a:rPr>
              <a:t>Aumento de 2,8% no número de postos de trabalhos gerados em 2011, Isso representa  21 mil funcionários contratados pelas padarias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O setor emprega  cerca de 779 mil empregos diretos e 1,8 milhão de forma indireta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4:42:51Z</dcterms:created>
  <dc:creator>Alysson</dc:creator>
  <dc:description/>
  <dc:language>en-US</dc:language>
  <cp:lastModifiedBy>Usuário</cp:lastModifiedBy>
  <dcterms:modified xsi:type="dcterms:W3CDTF">2012-07-04T12:07:49Z</dcterms:modified>
  <cp:revision>221</cp:revision>
  <dc:subject/>
  <dc:title>Slide 1</dc:title>
</cp:coreProperties>
</file>